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92D-6A5E-48EF-BA19-FE83FA4E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C25-CCCE-4499-BD13-5D866FBC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70-598C-4F33-AAE2-007A2ED0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6D2-3F36-4D51-8F6D-7872BAB6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61C-AA91-46F2-B4A2-E8AFD170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216-2D20-46A4-855A-9104E95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07C-B249-4C68-8315-5CE05C73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BC5-4227-4E9C-845D-A50209F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5F9-2610-46FC-8435-D61BF6F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E4C-3840-4613-A563-1F33637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2F4-D7CF-4713-A71B-8F081AA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5DB-EDB7-41E2-9A77-45A01A5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5B1-F768-4DCA-B4E9-1999C7E1C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b-AzkhDNRTAC&amp;pg=PA1846&amp;lpg=PA1846&amp;dq=map+of+ussr+after+communism&amp;source=web&amp;ots=w6SUS5wLDL&amp;sig=jS99PVR2tj-nQAUnTWUuHWsfS_M&amp;hl=en&amp;sa=X&amp;oi=book_result&amp;resnum=6&amp;ct=resul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ition.cnn.com/2007/WORLD/europe/04/27/chechnya.timeline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s.org/frontlineworld/educators/economics_russia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preview of everything for H’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oks.google.com/books?id=b-AzkhDNRTAC&amp;pg=PA1846&amp;lpg=PA1846&amp;dq=map+of+ussr+after+communism&amp;source=web&amp;ots=w6SUS5wLDL&amp;sig=jS99PVR2tj-nQAUnTWUuHWsfS_M&amp;hl=en&amp;sa=X&amp;oi=book_result&amp;resnum=6&amp;ct=result#PPA1854,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5486400"/>
            <a:ext cx="2666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ing borders of Europe 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ws.bbc.co.uk/2/shared/spl/hi/europe/02/euro_borders/html/11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scribe the hard times many Russians are facing since the Fall of Commu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types of living conditions have been created by these hard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frontlineworld/educators/economics_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clip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5T17:45:26Z</dcterms:modified>
  <cp:revision>9</cp:revision>
  <dc:subject/>
  <dc:title>Life in Russia </dc:title>
</cp:coreProperties>
</file>