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F8B6-65A9-494E-A278-7F91F2D33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BD7D-6323-41E6-B910-2C64CE63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960A-A2A9-414D-AB61-6465B512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1FAE-84BD-4139-AEB8-318CF4F6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93FD-9841-49AF-AB5E-048F5168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A517-0019-4F5E-8348-4C1BE5C7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6883-53DA-4386-996F-CF425E8D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2727-56EE-4C36-B72F-11B50C56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C2AC-E7DF-40A0-AFBE-6E7A0869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4C8F-A2AB-40F6-BAAF-43D870B9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6EF8-6922-4BEE-8DC0-904FCE6D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A2D0-9ECE-49B6-8FAE-0DA35D21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7501-E8E1-482A-8055-7F695FB53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books.google.com/books?id=b-AzkhDNRTAC&amp;pg=PA1846&amp;lpg=PA1846&amp;dq=map+of+ussr+after+communism&amp;source=web&amp;ots=w6SUS5wLDL&amp;sig=jS99PVR2tj-nQAUnTWUuHWsfS_M&amp;hl=en&amp;sa=X&amp;oi=book_result&amp;resnum=6&amp;ct=resul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dition.cnn.com/2007/WORLD/europe/04/27/chechnya.timeline/index.html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bs.org/frontlineworld/educators/economics_russia.html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Russ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Fall of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preview of everything for H’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books.google.com/books?id=b-AzkhDNRTAC&amp;pg=PA1846&amp;lpg=PA1846&amp;dq=map+of+ussr+after+communism&amp;source=web&amp;ots=w6SUS5wLDL&amp;sig=jS99PVR2tj-nQAUnTWUuHWsfS_M&amp;hl=en&amp;sa=X&amp;oi=book_result&amp;resnum=6&amp;ct=result#PPA1854,M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hifts from Communism to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ave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eople gain freed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Revolutions in the former Soviet Unio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763120" cy="5494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5486400"/>
            <a:ext cx="26668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used to all be a part of the Soviet Union – controlled by Rus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ifting borders of Europe th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news.bbc.co.uk/2/shared/spl/hi/europe/02/euro_borders/html/11.s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Ethnic Confli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hech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hnya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dition.cnn.com/2007/WORLD/europe/04/27/chechnya.timeline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Russia” Clip Questions – Par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xplain the changes in Russia since it has become a market econom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/Econo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w Russia” Clip Questions – Pa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escribe the hard times many Russians are facing since the Fall of Communis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types of living conditions have been created by these hard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bs.org/frontlineworld/educators/economics_russia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ant clip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d Cr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7:04:33Z</dcterms:created>
  <dc:creator>CFISD</dc:creator>
  <dc:description/>
  <dc:language>en-US</dc:language>
  <cp:lastModifiedBy>CFISD</cp:lastModifiedBy>
  <dcterms:modified xsi:type="dcterms:W3CDTF">2009-01-05T17:45:26Z</dcterms:modified>
  <cp:revision>9</cp:revision>
  <dc:subject/>
  <dc:title>Life in Russia </dc:title>
</cp:coreProperties>
</file>