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0023-7189-4FC1-8B32-EBD1439F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6CD-002E-4796-86F9-F8B9F2EF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11A-E0D9-4A8D-BD71-CD4CE137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77D1-031D-4D19-82BB-B6F34333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4FB-314E-4EED-B614-7B100B8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498-9426-4726-A8D7-3C89E2FC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817-6B74-463E-8F0B-4367A100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463B-FC85-4447-A04F-28E49772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A0BD-CE4C-4E97-9E3A-0EE2D2AC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6640-5C64-4FC2-8F60-6BDB4CE0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E90-9A1C-4044-9558-48E6F066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228-F2C4-4E82-81C6-445E0B2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A693-3F2D-48CF-9D7F-A2311C5E2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b-AzkhDNRTAC&amp;pg=PA1846&amp;lpg=PA1846&amp;dq=map+of+ussr+after+communism&amp;source=web&amp;ots=w6SUS5wLDL&amp;sig=jS99PVR2tj-nQAUnTWUuHWsfS_M&amp;hl=en&amp;sa=X&amp;oi=book_result&amp;resnum=6&amp;ct=resul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ition.cnn.com/2007/WORLD/europe/04/27/chechnya.timeline/index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bs.org/frontlineworld/educators/economics_russia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preview of everything for H’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ooks.google.com/books?id=b-AzkhDNRTAC&amp;pg=PA1846&amp;lpg=PA1846&amp;dq=map+of+ussr+after+communism&amp;source=web&amp;ots=w6SUS5wLDL&amp;sig=jS99PVR2tj-nQAUnTWUuHWsfS_M&amp;hl=en&amp;sa=X&amp;oi=book_result&amp;resnum=6&amp;ct=result#PPA1854,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5486400"/>
            <a:ext cx="2666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ing borders of Europe t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news.bbc.co.uk/2/shared/spl/hi/europe/02/euro_borders/html/11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hech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scribe the hard times many Russians are facing since the Fall of Commu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types of living conditions have been created by these hard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frontlineworld/educators/economics_russ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clip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5T17:45:26Z</dcterms:modified>
  <cp:revision>9</cp:revision>
  <dc:subject/>
  <dc:title>Life in Russia </dc:title>
</cp:coreProperties>
</file>