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C58-FB17-4006-892F-B7847B01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545-ED93-4680-AAB9-CD38E2F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665-E8B9-4673-9A3A-415CAC71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D7C-F1D4-411C-95DC-98FE7BF8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2E2-BC5A-4F2B-B98F-A1836BEB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150-105D-43A6-98A1-44C0E8E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343-F55F-49F9-B52A-B3DEF9AD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522-F71A-43CA-9343-25A1E73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DFE-AEEC-414B-82EE-49F8941C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A71-FD08-43AF-9A15-2152331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91F-F36D-4846-AEC1-833E3C9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F6-C225-4BA5-8153-F16607C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E1B1-6204-415B-8197-69B6AD6ED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b-AzkhDNRTAC&amp;pg=PA1846&amp;lpg=PA1846&amp;dq=map+of+ussr+after+communism&amp;source=web&amp;ots=w6SUS5wLDL&amp;sig=jS99PVR2tj-nQAUnTWUuHWsfS_M&amp;hl=en&amp;sa=X&amp;oi=book_result&amp;resnum=6&amp;ct=resul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ition.cnn.com/2007/WORLD/europe/04/27/chechnya.timeline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s.org/frontlineworld/educators/economics_russia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preview of everything for H’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oks.google.com/books?id=b-AzkhDNRTAC&amp;pg=PA1846&amp;lpg=PA1846&amp;dq=map+of+ussr+after+communism&amp;source=web&amp;ots=w6SUS5wLDL&amp;sig=jS99PVR2tj-nQAUnTWUuHWsfS_M&amp;hl=en&amp;sa=X&amp;oi=book_result&amp;resnum=6&amp;ct=result#PPA1854,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5486400"/>
            <a:ext cx="2666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ing borders of Europe 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ws.bbc.co.uk/2/shared/spl/hi/europe/02/euro_borders/html/11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scribe the hard times many Russians are facing since the Fall of Commu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types of living conditions have been created by these hard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frontlineworld/educators/economics_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clip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5T17:45:26Z</dcterms:modified>
  <cp:revision>9</cp:revision>
  <dc:subject/>
  <dc:title>Life in Russia </dc:title>
</cp:coreProperties>
</file>