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96F-30E6-4753-B188-29E1CB57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7F1-AF21-4BCD-A62A-429B3036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FC5-3B8F-4FDB-8F7A-F636AE3B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088-8E21-4F9A-8994-1FB775CF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9DD-77F7-4A5A-922D-49538451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416-DD72-428D-97B3-DE1ED307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7B9B-8512-4C10-BE36-0034DC6E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59A-4CA5-4914-9E7E-039275F8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A9B3-6527-44AB-B059-95904B2F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6EC-7560-4E21-9494-D2E46D18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17E-4F8A-4AB6-86E9-A79BBB37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5E3-AA06-444C-A322-C970A931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3B97-C46D-4796-9972-8990CB4D6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bbc.co.uk/2/hi/special_report/1998/03/98/russian_mafia/70095.stm" TargetMode="External"/><Relationship Id="rId2" Type="http://schemas.openxmlformats.org/officeDocument/2006/relationships/hyperlink" Target="http://www.msnbc.msn.com/id/3340035/" TargetMode="External"/><Relationship Id="rId3" Type="http://schemas.openxmlformats.org/officeDocument/2006/relationships/hyperlink" Target="http://news.bbc.co.uk/2/hi/europe/233604.stm" TargetMode="External"/><Relationship Id="rId4" Type="http://schemas.openxmlformats.org/officeDocument/2006/relationships/hyperlink" Target="http://news.bbc.co.uk/2/hi/special_report/1998/03/98/russian_mafia/70485.s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After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/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” Clip Questions –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the hard times (living conditions) many Russians are facing since the Fall of Commun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s the economy better or worse than during Communis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egin working on your economic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be able to finish this in less than 15 minute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et a lap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ccess the Organized Crime notes/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i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/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 Clip –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How does the new Russian government treat high profile business 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Why do they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ized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l breakthrough for criminal organizations occurred during the economic disaster and mass emigration of the 1990s that followed the fall of the Soviet Un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erate for money, many former government workers turned to crime, others joined the Soviet citizens who moved overseas, and the Mafia became a natural extension of this tre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r KGB agents, sportsmen and veterans of the Afghan and Chechen Wars, now finding themselves out-of-work but with experience in areas which could prove useful in crime, joined the increasing crime wa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spread corruption, poverty and distrust of authorities only contributed to the rise of organized cr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killings reached an all-time high with many gangland murders taking place, a substantial number remaining unsolved. The new criminal class of Russia took on a more Westernized and businesslike approach to organized crime as the more code-of-honor-bas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ded into exti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ed Crim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Rise and Rise of the Russian Mafia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special_report/1998/03/98/russian_mafia/70095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he Russian mob trading arms for cocaine with Colombian rebels (MSN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snbc.msn.com/id/3340035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Alleged Russian mafia boss cleared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ews.bbc.co.uk/2/hi/europe/233604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So who are the Russian mafia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ews.bbc.co.uk/2/hi/special_report/1998/03/98/russian_mafia/70485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3:19:47Z</dcterms:created>
  <dc:creator>CFISD</dc:creator>
  <dc:description/>
  <dc:language>en-US</dc:language>
  <cp:lastModifiedBy>CFISD</cp:lastModifiedBy>
  <dcterms:modified xsi:type="dcterms:W3CDTF">2009-01-07T14:00:48Z</dcterms:modified>
  <cp:revision>7</cp:revision>
  <dc:subject/>
  <dc:title>Slide 1</dc:title>
</cp:coreProperties>
</file>