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E6CA-93DD-4B26-9324-1CC76DE00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EDE-1702-4008-96D1-D6A97CCF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A5E8-146B-419E-9974-4253D7B9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E894-4CDE-4160-878D-B143A020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5F43-633C-4424-8BE9-FD01CA10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7201-1D9F-4024-9770-B45C0D27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FBB-9725-46C9-A297-6743C35E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C815-7100-4852-B822-3D8DE380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7561-353F-4374-ADC1-B62355B4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0C4D-4127-45EB-AFC8-3DBBEAA1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B3B3-F20F-4C9B-9452-76799278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282-8BEF-4ABF-A140-C5C707F2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9340-249C-4C8B-A00F-DFE7A34E5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ews.bbc.co.uk/2/hi/special_report/1998/03/98/russian_mafia/70095.stm" TargetMode="External"/><Relationship Id="rId2" Type="http://schemas.openxmlformats.org/officeDocument/2006/relationships/hyperlink" Target="http://www.msnbc.msn.com/id/3340035/" TargetMode="External"/><Relationship Id="rId3" Type="http://schemas.openxmlformats.org/officeDocument/2006/relationships/hyperlink" Target="http://news.bbc.co.uk/2/hi/europe/233604.stm" TargetMode="External"/><Relationship Id="rId4" Type="http://schemas.openxmlformats.org/officeDocument/2006/relationships/hyperlink" Target="http://news.bbc.co.uk/2/hi/special_report/1998/03/98/russian_mafia/70485.stm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After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/Econo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” Clip Questions – 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scribe the hard times (living conditions) many Russians are facing since the Fall of Commun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Is the economy better or worse than during Communis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egin working on your economic produ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hould be able to finish this in less than 15 minute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et a lap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ccess the Organized Crime notes/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i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/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 Clip – Part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How does the new Russian government treat high profile business m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Why do they do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ganized Cr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al breakthrough for criminal organizations occurred during the economic disaster and mass emigration of the 1990s that followed the fall of the Soviet Un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erate for money, many former government workers turned to crime, others joined the Soviet citizens who moved overseas, and the Mafia became a natural extension of this tre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r KGB agents, sportsmen and veterans of the Afghan and Chechen Wars, now finding themselves out-of-work but with experience in areas which could prove useful in crime, joined the increasing crime wav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spread corruption, poverty and distrust of authorities only contributed to the rise of organized cr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 killings reached an all-time high with many gangland murders taking place, a substantial number remaining unsolved. The new criminal class of Russia took on a more Westernized and businesslike approach to organized crime as the more code-of-honor-bas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aded into exti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ed Crime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Rise and Rise of the Russian Mafia (B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special_report/1998/03/98/russian_mafia/70095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he Russian mob trading arms for cocaine with Colombian rebels (MSN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snbc.msn.com/id/3340035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Alleged Russian mafia boss cleared (B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news.bbc.co.uk/2/hi/europe/233604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So who are the Russian mafia (BBC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ews.bbc.co.uk/2/hi/special_report/1998/03/98/russian_mafia/70485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3:19:47Z</dcterms:created>
  <dc:creator>CFISD</dc:creator>
  <dc:description/>
  <dc:language>en-US</dc:language>
  <cp:lastModifiedBy>CFISD</cp:lastModifiedBy>
  <dcterms:modified xsi:type="dcterms:W3CDTF">2009-01-07T14:00:48Z</dcterms:modified>
  <cp:revision>7</cp:revision>
  <dc:subject/>
  <dc:title>Slide 1</dc:title>
</cp:coreProperties>
</file>