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A88-29E9-4B33-943D-9B1E879B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46C-749E-4295-B8B7-E6598906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084-04FE-45CB-A532-2D5B7C17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560-317A-4CC5-8761-BEA5D3A5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DE5-90A5-4597-A34A-130142E5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038-CC49-47F7-8756-18BE6778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66F-6967-409A-A576-C0C0BC43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E0F-8680-4BD7-9929-06058CD9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88A-CD53-49BD-99EE-E5012C2B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86D-C221-4FFE-ACFB-EBB388E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970-85A3-4FC2-B0F7-2BA960E1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3D2-1F46-4CA9-BF69-83AB93C2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5644-A903-4F01-9005-63B0C906E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hi/special_report/1998/03/98/russian_mafia/70095.stm" TargetMode="External"/><Relationship Id="rId2" Type="http://schemas.openxmlformats.org/officeDocument/2006/relationships/hyperlink" Target="http://www.msnbc.msn.com/id/3340035/" TargetMode="External"/><Relationship Id="rId3" Type="http://schemas.openxmlformats.org/officeDocument/2006/relationships/hyperlink" Target="http://news.bbc.co.uk/2/hi/europe/233604.stm" TargetMode="External"/><Relationship Id="rId4" Type="http://schemas.openxmlformats.org/officeDocument/2006/relationships/hyperlink" Target="http://news.bbc.co.uk/2/hi/special_report/1998/03/98/russian_mafia/70485.s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fter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/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hard times (living conditions) many Russians are facing since the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s the economy better or worse than during Communis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egin working on your economic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be able to finish this in less than 15 minute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a lap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ccess the Organized Crime notes/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/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 Clip –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How does the new Russian government treat high profile business 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y do they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ized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 breakthrough for criminal organizations occurred during the economic disaster and mass emigration of the 1990s that followed the fall of the Soviet Un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erate for money, many former government workers turned to crime, others joined the Soviet citizens who moved overseas, and the Mafia became a natural extension of this tre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 KGB agents, sportsmen and veterans of the Afghan and Chechen Wars, now finding themselves out-of-work but with experience in areas which could prove useful in crime, joined the increasing crime w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spread corruption, poverty and distrust of authorities only contributed to the rise of organized cr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killings reached an all-time high with many gangland murders taking place, a substantial number remaining unsolved. The new criminal class of Russia took on a more Westernized and businesslike approach to organized crime as the more code-of-honor-bas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ded into exti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ed Crim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Rise and Rise of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special_report/1998/03/98/russian_mafia/7009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Russian mob trading arms for cocaine with Colombian rebels (MSN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snbc.msn.com/id/334003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Alleged Russian mafia boss cleared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ews.bbc.co.uk/2/hi/europe/233604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o who are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special_report/1998/03/98/russian_mafia/7048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19:47Z</dcterms:created>
  <dc:creator>CFISD</dc:creator>
  <dc:description/>
  <dc:language>en-US</dc:language>
  <cp:lastModifiedBy>CFISD</cp:lastModifiedBy>
  <dcterms:modified xsi:type="dcterms:W3CDTF">2009-01-07T14:00:48Z</dcterms:modified>
  <cp:revision>7</cp:revision>
  <dc:subject/>
  <dc:title>Slide 1</dc:title>
</cp:coreProperties>
</file>