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D86-32C3-4C6E-ACD8-6E6EF99F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166-A214-45B5-88DE-2166BF3A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384-8A42-476D-A7A7-E55C399D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7D31-B2C1-4D49-AFF2-4D3DF8C9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9E2-2B2F-42DD-9E87-508B26F4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8601-8DD8-47CB-B8C7-13D42FC8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B25-9DC0-4832-AE30-4232BB66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916-0B88-44FA-BCCE-CDC737F4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DF0-3FAE-4A70-9F4F-99B81759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6AB-B17D-49DF-AEDA-7A741DC8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E80-5463-437F-82C4-DC9E247A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A441-3EE8-438A-A986-83FEE42C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3C2A-744A-4689-A1FC-508A18EC1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–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in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a list of human rights violations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Rights were re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free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l art must support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enso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hibiting people from expressing their beliefs or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e S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citizens were  immediately arrested for illegal activiti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 Police – plain-clothes officers who worked for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people were arrested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using to give land to the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ng goods (ex. Growing wheat and selling it to your neighb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aking or writing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songs or other art forms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1905120"/>
            <a:ext cx="18288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 an example of something a person could do in the US that would get him/her in trouble in the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ore rights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igion is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ducation was used to train people to become loyal commu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designed to make them loyal and patriotic citiz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books were created by government approved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information would guard students against the influence of communism's many enemies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Democracy and market econom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ents memorized slogans favorable to Lenin and Stalin and their works would inspire them to carry on the goals of the part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1752480"/>
            <a:ext cx="175284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 an example of a homework assignment or in-class activity that could occur in a Soviet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ig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Worship the government instead of Christian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34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rding to communism, political leaders, would quickly replace religious lea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igion was considered useless superstition, whereas communism was considered a science, a better way of thinking and ac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was no place in a Communist society for Christian ideas that promised salvation and heaven for the well-behaved individual, as measured by the B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4382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– Why would a communist leader want people to worship the government instead of reli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collectivization policies caused massive fa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Ban on private property devastated liv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Purge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alin killed millions of people who he felt were against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08:15Z</dcterms:created>
  <dc:creator>CFISD</dc:creator>
  <dc:description/>
  <dc:language>en-US</dc:language>
  <cp:lastModifiedBy>CFISD</cp:lastModifiedBy>
  <dcterms:modified xsi:type="dcterms:W3CDTF">2008-12-19T13:54:37Z</dcterms:modified>
  <cp:revision>5</cp:revision>
  <dc:subject/>
  <dc:title>Slide 1</dc:title>
</cp:coreProperties>
</file>