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F59-9CBC-4B1C-B131-E6263A66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C5C-DB6F-42BA-8CA1-CEA9EB25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957-E417-4E68-A722-22ECC52C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C11-D1D8-456F-8EC7-582EF6BE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DD0-3685-4D4A-8E23-94D83E3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7D1-2ECD-4A72-9966-8C78B296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BD4-0EA1-499F-AEE6-16DD466D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FB7-C984-40EA-98A3-91A04B80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106-6AD7-472E-913C-247D1E3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13F-CAAC-4414-8B73-6D4AC3E7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686-8F8E-410F-A481-89F22F5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CC7-6110-4766-8194-899E47F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9A82-6347-455F-9817-1EC48974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–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list of human rights violations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Rights were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free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l art must support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ns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hibiting people from expressing their beliefs or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e S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itizens were  immediately arrested for illegal activiti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Police – plain-clothes officers who worked for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people were arrested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ing to give land to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ng goods (ex. Growing wheat and selling it to your neighb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aking or writing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songs or other art forms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1905120"/>
            <a:ext cx="18288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 an example of something a person could do in the US that would get him/her in trouble in the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ore rights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igion is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 was used to train people to become loyal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designed to make them loyal and patriotic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books were created by government approved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formation would guard students against the influence of communism's many enemies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mocracy and market econom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memorized slogans favorable to Lenin and Stalin and their works would inspire them to carry on the goals of the part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752480"/>
            <a:ext cx="17528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an example of a homework assignment or in-class activity that could occur in a Soviet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Worship the government instead of Christian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rding to communism, political leaders, would quickly replace religious l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gion was considered useless superstition, whereas communism was considered a science, a better way of thinking and ac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was no place in a Communist society for Christian ideas that promised salvation and heaven for the well-behaved individual, as measured by the B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– Why would a communist leader want people to worship the government instead of reli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collectivization policies caused massive f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Ban on private property devastated liv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Purge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lin killed millions of people who he felt were against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08:15Z</dcterms:created>
  <dc:creator>CFISD</dc:creator>
  <dc:description/>
  <dc:language>en-US</dc:language>
  <cp:lastModifiedBy>CFISD</cp:lastModifiedBy>
  <dcterms:modified xsi:type="dcterms:W3CDTF">2008-12-19T13:54:37Z</dcterms:modified>
  <cp:revision>5</cp:revision>
  <dc:subject/>
  <dc:title>Slide 1</dc:title>
</cp:coreProperties>
</file>