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356-C0AF-449F-885D-1245593B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C7B-A575-4157-8C0E-9974722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CA8-A27F-4335-89A1-DD571978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793C-B234-49D5-8365-17C755F6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E04-3366-4ADF-98A6-C782FEDB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2CB0-5BB6-4786-B90C-99CC98FB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62C-F5B4-43B6-9588-D2B2F52E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0034-5403-4553-A0EB-AA93F321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460B-8948-42C7-8A86-D8509AC2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124-82F7-468A-9A22-EC8A5823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E0E-7FE4-4D56-965B-0FF81CD6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65F-1763-4488-BE17-48971887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92E4-F0AB-4F16-A03D-B6EA6E89F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oviet_Union%2C_Lenin_%2855%29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Tsarbom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83944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te your ECONOMIC HISTORIC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Acrostic Poem or the Pos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ion of the project is due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o it anyway you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iece of comput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power point (do your rough draft today and email it to me when you are fin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own wiki (go to wikispace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129528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-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conomic System =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in Economic Policy = Rapid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Vladimir Lenin speaking to Red Army troops before their departure to the Polish fro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733920"/>
            <a:ext cx="2771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controls 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takes al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qual pay crushes incentive to work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nemployment lo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vernment provides people with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 of Communism 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is Stalin’s 5 year pl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ow did it turn 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assive Cold War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t up milita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ent money on wars in Vietnam, North Korea,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Tsar Bomba, the most powerful nuclear weapon ever detonated, was one of many products of the Cold War tension between the Soviet Union and the United Stat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3505320"/>
            <a:ext cx="4572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13330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llective Far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viet government kicks farmers off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ts up huge government-run far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lectiv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during Communism (Histo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after Communism (Mode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conomic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ue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cial and Political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duct due Monday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llowing at the top of your project direc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ww.orso2ndperiod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aden.orso@cfisd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2:49:44Z</dcterms:created>
  <dc:creator>CFISD</dc:creator>
  <dc:description/>
  <dc:language>en-US</dc:language>
  <cp:lastModifiedBy>CFISD</cp:lastModifiedBy>
  <dcterms:modified xsi:type="dcterms:W3CDTF">2008-12-18T17:45:29Z</dcterms:modified>
  <cp:revision>12</cp:revision>
  <dc:subject/>
  <dc:title>Life Under Communism</dc:title>
</cp:coreProperties>
</file>