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319-43B6-4EEF-B691-08D2220B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043-47E2-458B-ABE1-C1A9DFBB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1DF-4CAA-4F19-BDDB-C8668BEB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2BA-6AEF-41FD-BB2E-EC48A2B1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352-A595-4EC2-964B-6818F1CF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A72-0B30-44CC-82FF-57F0D2AE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D93-236A-44D0-BC33-69E6C0B1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2B2-B52C-45A6-98BC-ED38FC48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0F0-CC7C-493F-87B1-9A2895C9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19C-C0A0-4CFB-8028-2EEEA03D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377-2BB7-44AC-8D58-730A5601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0E7-9998-4C7D-9E6F-B9B5921C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C9A8-B17C-4AC1-ACF6-85B4F2250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Soviet_Union%2C_Lenin_%2855%29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Tsarbom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83944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te your ECONOMIC HISTORICAL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Acrostic Poem or the Pos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ortion of the project is due tomorr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o it anyway you w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piece of comput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power point (do your rough draft today and email it to me when you are finis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your own wiki (go to wikispaces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24680" y="1295280"/>
            <a:ext cx="83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 - 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2-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conomic System =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in Economic Policy = Rapid Indust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Vladimir Lenin speaking to Red Army troops before their departure to the Polish fron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3733920"/>
            <a:ext cx="2771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vernment controls all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vernment takes all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qual pay crushes incentive to work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nemployment lo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vernment provides people with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ffects of Communism 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hat is Stalin’s 5 year pl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ow did it turn 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Massive Cold War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uilt up militar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ms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pent money on wars in Vietnam, North Korea, Afghan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The Tsar Bomba, the most powerful nuclear weapon ever detonated, was one of many products of the Cold War tension between the Soviet Union and the United State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62520" y="3505320"/>
            <a:ext cx="45720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13330" r="0" b="0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Collective Far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oviet government kicks farmers off their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ts up huge government-run farm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llectiv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during Communism (Histor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after Communism (Mode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conomic during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due 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cial and Political during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duct due Monday 1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380880"/>
            <a:ext cx="838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following at the top of your project direc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ww.orso2ndperiod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aden.orso@cfisd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72400" y="380880"/>
            <a:ext cx="838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2:49:44Z</dcterms:created>
  <dc:creator>CFISD</dc:creator>
  <dc:description/>
  <dc:language>en-US</dc:language>
  <cp:lastModifiedBy>CFISD</cp:lastModifiedBy>
  <dcterms:modified xsi:type="dcterms:W3CDTF">2008-12-18T17:45:29Z</dcterms:modified>
  <cp:revision>12</cp:revision>
  <dc:subject/>
  <dc:title>Life Under Communism</dc:title>
</cp:coreProperties>
</file>