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7031-6D35-4F1F-9134-C0A36760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2F8-FD6C-4120-80E5-BCA49C8B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7589-B46A-4B3D-8B1C-8E632D43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135-610E-41FC-A138-21ABBA50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F3D-33DC-47F7-AEE7-3DC39C12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43FD-239A-4CAA-8C32-8E9F1A91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C4B-C6D5-4B93-A1DB-B094687C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474-940B-4CED-BF8C-A2DDDF9F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5D0-2834-4209-A345-2795E94A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A89-4075-4ACB-BAF6-20DECDE9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C3D-8853-4545-9D92-7511360A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AE42-F4CF-4154-A8DF-2CAA590B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2F3C-862C-4BA5-AE7A-E966D385B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ition.cnn.com/2007/WORLD/europe/04/27/chechnya.timeline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Perestro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from command economy to 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Economic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7531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- 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all of Communism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oint in history where the Soviet Union broke a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n Russia changed to a Democrac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Russia changed to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 a list of freedoms that were banned under the Soviet Union that are now accep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las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olicy of openness in the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reedom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why the freedom of information is important?  How is this different from life in the Soviet Un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572000"/>
            <a:ext cx="26668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thnic groups inside of Russia’s borders see other people gaining free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y want it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ds to conflict in Chechnya and Geor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 – use this source to assist you with the conflict portion of the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6T13:49:46Z</dcterms:modified>
  <cp:revision>14</cp:revision>
  <dc:subject/>
  <dc:title>Life in Russia </dc:title>
</cp:coreProperties>
</file>