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58D-14F2-443E-B704-A1EDE811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EAE-8D2D-4011-B6A3-AF1AD87A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981-65DE-4F8C-AE4D-5E868EB6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2B8-5569-4EB7-81E1-5D962D26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64C-A436-4D3E-AEB9-42E6280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D3E-AD06-4419-81AC-27C02BA7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189-36CA-4967-9CAA-27AB2F18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8BC-D0C5-4F2D-B3DD-045E2B8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617-E7C1-405F-8D63-25285B34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25F-4B52-44DF-B108-115B883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F3A-01CB-45F6-A4E4-A0F1F6D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57A-CB1D-4BC3-AF83-3E83B10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0C44-14AA-40D8-AD09-B0916A692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ition.cnn.com/2007/WORLD/europe/04/27/chechnya.timeline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Perestro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 command economy to 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Economic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7531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- 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ll of Communism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oint in history where the Soviet Union broke a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n Russia changed to a Democra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Russia changed to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 a list of freedoms that were banned under the Soviet Union that are now accep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las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olicy of openness in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reedom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why the freedom of information is important?  How is this different from life in the Soviet U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572000"/>
            <a:ext cx="26668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thnic groups inside of Russia’s borders see other people gaining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y want it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ds to conflict in Chechnya and 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 – use this source to assist you with the conflict portion of the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6T13:49:46Z</dcterms:modified>
  <cp:revision>14</cp:revision>
  <dc:subject/>
  <dc:title>Life in Russia </dc:title>
</cp:coreProperties>
</file>