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398-13C9-4320-A8D5-478901EA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E2A2-24B8-44CE-82CE-3F6A830E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06B9-A755-40DF-8E44-24892C8F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E2B2-E818-4B70-9908-3F3ACA55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52D6-0E91-4E07-85EC-EB0CD03B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05A9-6B00-466E-A368-43DE8015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3B63-AE45-421C-A14B-CB254F7A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8AA-9DD7-4771-A8D6-B7E18971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F4A-D083-4439-A1F2-09E2B46C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CA5-95E1-4258-B272-31EDA919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AD9-F3DA-4A34-A29B-16E37C5E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CBDF-4F8A-48D8-9C5F-53A08696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A256-E0CA-41C9-8022-BB10B97E9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ews.bbc.co.uk/2/hi/special_report/1998/03/98/russian_mafia/70095.stm" TargetMode="External"/><Relationship Id="rId2" Type="http://schemas.openxmlformats.org/officeDocument/2006/relationships/hyperlink" Target="http://www.msnbc.msn.com/id/3340035/" TargetMode="External"/><Relationship Id="rId3" Type="http://schemas.openxmlformats.org/officeDocument/2006/relationships/hyperlink" Target="http://news.bbc.co.uk/2/hi/europe/233604.stm" TargetMode="External"/><Relationship Id="rId4" Type="http://schemas.openxmlformats.org/officeDocument/2006/relationships/hyperlink" Target="http://news.bbc.co.uk/2/hi/special_report/1998/03/98/russian_mafia/70485.s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After 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/Econo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Russia” Clip Questions – 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scribe the hard times (living conditions) many Russians are facing since the Fall of Communis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Is the economy better or worse than during Communis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egin working on your economic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be able to finish this in less than 15 minute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et a lap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ccess the Organized Crime notes/arti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i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/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Russia Clip – Par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How does the new Russian government treat high profile business 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Why do they do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ized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al breakthrough for criminal organizations occurred during the economic disaster and mass emigration of the 1990s that followed the fall of the Soviet Un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erate for money, many former government workers turned to crime, others joined the Soviet citizens who moved overseas, and the Mafia became a natural extension of this tre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r KGB agents, sportsmen and veterans of the Afghan and Chechen Wars, now finding themselves out-of-work but with experience in areas which could prove useful in crime, joined the increasing crime wa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spread corruption, poverty and distrust of authorities only contributed to the rise of organized cr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 killings reached an all-time high with many gangland murders taking place, a substantial number remaining unsolved. The new criminal class of Russia took on a more Westernized and businesslike approach to organized crime as the more code-of-honor-bas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ded into exti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ed Crime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Rise and Rise of the Russian Mafia (BBC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special_report/1998/03/98/russian_mafia/70095.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The Russian mob trading arms for cocaine with Colombian rebels (MSNBC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snbc.msn.com/id/3340035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Alleged Russian mafia boss cleared (BBC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news.bbc.co.uk/2/hi/europe/233604.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So who are the Russian mafia (BBC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ews.bbc.co.uk/2/hi/special_report/1998/03/98/russian_mafia/70485.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3:19:47Z</dcterms:created>
  <dc:creator>CFISD</dc:creator>
  <dc:description/>
  <dc:language>en-US</dc:language>
  <cp:lastModifiedBy>CFISD</cp:lastModifiedBy>
  <dcterms:modified xsi:type="dcterms:W3CDTF">2009-01-07T14:00:48Z</dcterms:modified>
  <cp:revision>7</cp:revision>
  <dc:subject/>
  <dc:title>Slide 1</dc:title>
</cp:coreProperties>
</file>