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744-A327-4293-9299-D5FDBAB9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CD4-B870-408B-A1BB-BC614DD1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162-818C-4AB5-A09B-BE55F84F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6FF-547F-464A-A824-204CA2F1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278-295E-4E7A-89FE-8B67BA88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61AA-0328-4A6A-84B0-425584D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822D-F719-44C5-AAF4-0E52BE28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646-6D73-4731-8B6F-F0FB3FE6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37B0-5BC7-445C-89E8-E2ECBA6B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8C83-1F08-4FD2-9633-4363C33B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A74-0711-4331-AD2B-DCA74AD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A31-584C-4315-AAAD-A00182D6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E58A-D91A-4921-9420-B0A3DEE6E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n 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ily Sprainis &amp; Lauren Delos Re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9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physical geography of Latin America affect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e latitude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mate will get hotter if the latitude is closer to the equ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does the elevation differences contribute to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er the elevation, the colder the cl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o the Key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to the many mountains and Latin America nearing the equator, its climates v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2:52:59Z</dcterms:created>
  <dc:creator>cfisd</dc:creator>
  <dc:description/>
  <dc:language>en-US</dc:language>
  <cp:lastModifiedBy>cfisd</cp:lastModifiedBy>
  <dcterms:modified xsi:type="dcterms:W3CDTF">2009-05-19T12:55:32Z</dcterms:modified>
  <cp:revision>2</cp:revision>
  <dc:subject/>
  <dc:title>Latin American Climate</dc:title>
</cp:coreProperties>
</file>