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47A-FB77-4626-A57E-BF0C2E66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BE1-B0E6-4FFE-8621-89DB9A1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84B-7640-4940-B7A0-3F7D1BB7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80E-8B44-4655-8F6C-BBD268D0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A79-E689-4705-BC9C-412C7AD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7F9-B5CA-4010-9846-4E372B9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582-E246-48E5-83DD-B7EECAA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1B3-4C06-4294-B82E-BB4E1FD7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F5C-CD6D-44EE-BAC1-F091652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713-B2C2-4EEA-9278-A06E664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417-310C-472D-BD4F-A14BA9C8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15C-A6CA-4883-AF53-E48E9DB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1D3F-DB44-4F17-A41E-7BE489CC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n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ly Sprainis &amp; Lauren Delos R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physical geography of Latin America affect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e latitude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mate will get hotter if the latitude is closer to the equ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does the elevation differences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er the elevation, the colder the cl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o the Key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many mountains and Latin America nearing the equator, its climates 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2:59Z</dcterms:created>
  <dc:creator>cfisd</dc:creator>
  <dc:description/>
  <dc:language>en-US</dc:language>
  <cp:lastModifiedBy>cfisd</cp:lastModifiedBy>
  <dcterms:modified xsi:type="dcterms:W3CDTF">2009-05-19T12:55:32Z</dcterms:modified>
  <cp:revision>2</cp:revision>
  <dc:subject/>
  <dc:title>Latin American Climate</dc:title>
</cp:coreProperties>
</file>