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477-1716-4445-AAC7-3312CB91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009-3E7A-4A3C-8465-7249BA0A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251-7B15-4A5B-9C7F-A492553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631-047C-43B7-8E3F-693F6156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FCA-4E6D-4C76-B4C3-32E46A54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EB2-1D69-4B10-88CD-60C3CEBF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6D4-8FED-466A-843C-B7A7FB80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E74-53C3-4F93-9520-61F971F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EA2-6680-42AA-B66F-927694C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D4D-A80F-43BA-9241-389107C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AB7-AB06-4A89-B5C9-9B0FAD6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05B-8C6A-4972-AE4B-3D5FE63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69DE-989C-4704-AA4E-92266155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ly Sprainis &amp; Lauren Delos R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physical geography of Latin America affect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e latitude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mate will get hotter if the latitude is closer to the 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does the elevation differences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r the elevation, the colder the c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o the Ke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many mountains and Latin America nearing the equator, its climates 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2:59Z</dcterms:created>
  <dc:creator>cfisd</dc:creator>
  <dc:description/>
  <dc:language>en-US</dc:language>
  <cp:lastModifiedBy>cfisd</cp:lastModifiedBy>
  <dcterms:modified xsi:type="dcterms:W3CDTF">2009-05-19T12:55:32Z</dcterms:modified>
  <cp:revision>2</cp:revision>
  <dc:subject/>
  <dc:title>Latin American Climate</dc:title>
</cp:coreProperties>
</file>