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1CDF-74ED-4A34-B917-ED46B572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E17D-34F7-4532-85D9-D9534657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79B1-1723-4480-BD7B-16C5DC1F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F58-C084-4FA0-BE65-916D579D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E44-6506-4562-A25A-8AC845C7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18A2-1545-45E3-998E-10425858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74E4-F240-42C6-8E2F-084A351F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B7C-7524-45ED-84B5-F38EA7EB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4DE4-8ABF-4445-893E-B046984D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5C88-B5D5-4079-A880-69505AB5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F315-E955-4511-9EFB-3764F388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E41-E8BB-466B-9FF7-C7DA66CA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62D1-0327-47F3-B7C2-6061EBA63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n American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ily Sprainis &amp; Lauren Delos R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9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the physical geography of Latin America affect cli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How does the latitude contribute to clim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mate will get hotter if the latitude is closer to the equ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How does the elevation differences contribute to clim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gher the elevation, the colder the cli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to the Key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the many mountains and Latin America nearing the equator, its climates v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2:52:59Z</dcterms:created>
  <dc:creator>cfisd</dc:creator>
  <dc:description/>
  <dc:language>en-US</dc:language>
  <cp:lastModifiedBy>cfisd</cp:lastModifiedBy>
  <dcterms:modified xsi:type="dcterms:W3CDTF">2009-05-19T12:55:32Z</dcterms:modified>
  <cp:revision>2</cp:revision>
  <dc:subject/>
  <dc:title>Latin American Climate</dc:title>
</cp:coreProperties>
</file>