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4439B2-9977-475D-AF63-734931CC4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496AD-B81C-408B-BDAD-39594CED6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D1FF4-20B0-4202-A7CD-2EA4B3CBE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A08344-E569-4612-B0B0-9DF7C2177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08DDD6-2614-43CC-9D51-70222E2CC7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D1843-A6A8-404E-9B22-FA8CFE0584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4A4CC5-52DA-4F90-85C8-2C44AD5826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CECEA5-9373-491D-9292-D0EF86CF4C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FF2325-961E-4EF0-8CA0-237C4DB90A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98B9AE-BC8C-41DF-8367-7589E9F4C4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33200-E24B-4F65-AAD9-792B63E3E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2C8DA-572C-4A7F-BB74-6304B62D9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63607-8603-49C6-84E5-747A794CC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359FC-81D5-4C06-BF3C-4DE102164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282DA2-60F8-4D6C-93DA-7AC5F90C50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5327CD-595A-4217-8179-5CF09B1444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BCC4CD-27D3-4610-A406-FC023C0227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814B5-0110-4407-AE4E-3FC699D50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FBF90-3EE7-482E-B3D8-1CF9DD7A3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3965F-DEA1-4CDC-B062-40402D65B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94418-BCAD-4D2A-87B1-7B05C7CEF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4B0E2-8160-474B-B272-3E4DC3AE9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1BB21-05BC-4D4B-98A1-114EE73D0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A3B93-FD50-4568-AD8E-CC876A3A3D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F1161-AAF8-497E-8054-641239BCA800}"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62580-DF16-4556-BECC-6BEA77C346A0}"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Latin America Trade Alliances</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i Nguyen</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ias Osi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NAFTA</a:t>
            </a: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t>
            </a:r>
            <a:r>
              <a:rPr b="1" lang="en-US" sz="2800" spc="-1" strike="noStrike">
                <a:solidFill>
                  <a:srgbClr val="ffffff"/>
                </a:solidFill>
                <a:latin typeface="Tahoma"/>
              </a:rPr>
              <a:t>North American Free Trade Agreement</a:t>
            </a:r>
            <a:r>
              <a:rPr b="0" lang="en-US" sz="2800" spc="-1" strike="noStrike">
                <a:solidFill>
                  <a:srgbClr val="ffffff"/>
                </a:solidFill>
                <a:latin typeface="Tahoma"/>
              </a:rPr>
              <a:t> (</a:t>
            </a:r>
            <a:r>
              <a:rPr b="1" lang="en-US" sz="2800" spc="-1" strike="noStrike">
                <a:solidFill>
                  <a:srgbClr val="ffffff"/>
                </a:solidFill>
                <a:latin typeface="Tahoma"/>
              </a:rPr>
              <a:t>NAFTA) </a:t>
            </a:r>
            <a:r>
              <a:rPr b="0" lang="en-US" sz="2800" spc="-1" strike="noStrike">
                <a:solidFill>
                  <a:srgbClr val="ffffff"/>
                </a:solidFill>
                <a:latin typeface="Tahoma"/>
              </a:rPr>
              <a:t>is a trilateral trade bloc in North America created by the governments of the United States, Canada, and Mexico. The agreement creating the trade bloc came into force on January 1, 1994. They have phenomenally increased the GDP of the members of this trade bloc. In terms of GDP purchasing power, it is the largest in the world. It has made US and Mexico’s trade power a lot more powerful and divers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Maquiladora </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quiladora is a factory that imports materials and equipment on a duty-free and tariff-free basis for assembly or manufacturing and then re-exports the assembled product, usually back to the originating country. Nearly half a million Mexicans are employed in maquiladoras. Maquiladoras have made development of parts for companies for tariff-free and tax-free. This has created investments in these Maquiladoras, creating cheap parts for large end companies but reducing jobs in the United State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he impact of trade alliances</a:t>
            </a:r>
            <a:endParaRPr b="0" lang="en-US" sz="44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de alliances in developing countries result in a need for new infrastructure in order to transport commodities. Without infrastructure, trade would be impossible. Trade also impacts modernization by diffusing culture and creating economic development. Economic development in turn results in a boom of businesses and technology which therefore impacts moderniz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Key Question</a:t>
            </a:r>
            <a:endParaRPr b="0" lang="en-US" sz="4400" spc="-1" strike="noStrike">
              <a:solidFill>
                <a:srgbClr val="dbbd71"/>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When one country holds a trade alliance with another they may see opportunity in that country’s trade and natural resources. Then they may decide to invest in the country which creates foreign investme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9T12:48:46Z</dcterms:created>
  <dc:creator>cfisd</dc:creator>
  <dc:description/>
  <dc:language>en-US</dc:language>
  <cp:lastModifiedBy>cfisd</cp:lastModifiedBy>
  <dcterms:modified xsi:type="dcterms:W3CDTF">2009-05-19T13:07:33Z</dcterms:modified>
  <cp:revision>3</cp:revision>
  <dc:subject/>
  <dc:title>Latin America Trade Alliances</dc:title>
</cp:coreProperties>
</file>