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473C71-1229-44BD-94AD-CB47E24F2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AB31C2-9C61-4A57-83C5-ECAB4C259B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DA72A6-BC89-4646-91B2-DE37870856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4F06B4-6767-4F21-BF89-6037923D9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AE3B9-0E5E-456F-909B-93FF07A107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969B77-8EE1-4707-94B5-DAC67CA2D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A9C67-5D29-4839-BA67-5954040739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ABFFF-A45C-4E3E-AC96-90D79AB75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2175C-2A28-4B5A-BD94-58F08D3E31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0E3B8-2C35-4F1A-A205-CA9BCF9B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A0CD-4FC1-4C53-9FA4-DAD823A60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9CFB67-4EDB-4C75-8ED1-764CC998EC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E7B99-75C3-4A38-9BBD-5AC22A1AF95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89040" y="-92160"/>
            <a:ext cx="7613640" cy="6108840"/>
          </a:xfrm>
          <a:prstGeom prst="rect">
            <a:avLst/>
          </a:prstGeom>
          <a:ln w="0">
            <a:noFill/>
          </a:ln>
        </p:spPr>
      </p:pic>
      <p:sp>
        <p:nvSpPr>
          <p:cNvPr id="42" name="TextBox 4"/>
          <p:cNvSpPr/>
          <p:nvPr/>
        </p:nvSpPr>
        <p:spPr>
          <a:xfrm>
            <a:off x="6248520" y="548640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remy Ph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iod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ld Geography - Ors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304920" y="121932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ayers to be Added to Crime Map</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Amount of law-enforcement in an area</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ate and time of previous crimes</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losest facility for medical treatment</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
          <p:cNvGraphicFramePr/>
          <p:nvPr/>
        </p:nvGraphicFramePr>
        <p:xfrm>
          <a:off x="1066680" y="2666880"/>
          <a:ext cx="7467840" cy="3886200"/>
        </p:xfrm>
        <a:graphic>
          <a:graphicData uri="http://schemas.openxmlformats.org/drawingml/2006/table">
            <a:tbl>
              <a:tblPr/>
              <a:tblGrid>
                <a:gridCol w="2229120"/>
                <a:gridCol w="965160"/>
                <a:gridCol w="965160"/>
                <a:gridCol w="3308400"/>
              </a:tblGrid>
              <a:tr h="646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Rape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Murder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me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23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0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8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66" name="TextBox 4"/>
          <p:cNvSpPr/>
          <p:nvPr/>
        </p:nvSpPr>
        <p:spPr>
          <a:xfrm>
            <a:off x="4495680" y="121932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Crime data can be used to analyze the risks of normal activities. If the crime level is high, there is a higher chance that students will be attacked, therefore making the school look bad and preventing future college students from attending Orso University.</a:t>
            </a:r>
            <a:endParaRPr b="0" lang="en-US" sz="1400" spc="-1" strike="noStrike">
              <a:solidFill>
                <a:srgbClr val="000000"/>
              </a:solidFill>
              <a:latin typeface="Calibri"/>
            </a:endParaRPr>
          </a:p>
        </p:txBody>
      </p:sp>
      <p:pic>
        <p:nvPicPr>
          <p:cNvPr id="67" name="Rectangle 5" descr=""/>
          <p:cNvPicPr/>
          <p:nvPr/>
        </p:nvPicPr>
        <p:blipFill>
          <a:blip r:embed="rId1"/>
          <a:stretch/>
        </p:blipFill>
        <p:spPr>
          <a:xfrm>
            <a:off x="1871640" y="103320"/>
            <a:ext cx="508320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828800" y="1295280"/>
          <a:ext cx="5624640" cy="3843360"/>
        </p:xfrm>
        <a:graphic>
          <a:graphicData uri="http://schemas.openxmlformats.org/drawingml/2006/table">
            <a:tbl>
              <a:tblPr/>
              <a:tblGrid>
                <a:gridCol w="2811600"/>
                <a:gridCol w="2813040"/>
              </a:tblGrid>
              <a:tr h="45720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ocation</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d Price (per acre)</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1: Bayside</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2: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3: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4: Downtown East</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5: Downtown Central</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5"/>
          <p:cNvSpPr/>
          <p:nvPr/>
        </p:nvSpPr>
        <p:spPr>
          <a:xfrm>
            <a:off x="685800" y="5486400"/>
            <a:ext cx="7848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This information can be used to determine how big the school will be, and would affect the recruitment of students who wish to attend a big school or a small school. The land prices may also indirectly affect the tuition fees of student courses. If the land price is very high, the university may have to charge students more money for their classes to pay off the cost of the land.</a:t>
            </a:r>
            <a:endParaRPr b="0" lang="en-US" sz="1400" spc="-1" strike="noStrike">
              <a:solidFill>
                <a:srgbClr val="000000"/>
              </a:solidFill>
              <a:latin typeface="Calibri"/>
            </a:endParaRPr>
          </a:p>
        </p:txBody>
      </p:sp>
      <p:pic>
        <p:nvPicPr>
          <p:cNvPr id="71" name="Rectangle 6" descr=""/>
          <p:cNvPicPr/>
          <p:nvPr/>
        </p:nvPicPr>
        <p:blipFill>
          <a:blip r:embed="rId1"/>
          <a:stretch/>
        </p:blipFill>
        <p:spPr>
          <a:xfrm>
            <a:off x="1427040" y="182520"/>
            <a:ext cx="6332760" cy="112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23623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information gathered from the crime analysis and the land price analysis, the Board of Directors must consider hiring security for the students around the campus. The cost of the security would be affected by the land price because more security would be needed to protect a larger area. The land price must be considered also because if the land is too expensive, there may be no money left to actually build the univers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 using this information, they must also consider ways of generating income to pay off the costs of security, land, labor, construction, and all other factors needed.</a:t>
            </a:r>
            <a:endParaRPr b="0" lang="en-US" sz="1800" spc="-1" strike="noStrike">
              <a:solidFill>
                <a:srgbClr val="000000"/>
              </a:solidFill>
              <a:latin typeface="Calibri"/>
            </a:endParaRPr>
          </a:p>
        </p:txBody>
      </p:sp>
      <p:pic>
        <p:nvPicPr>
          <p:cNvPr id="73" name="Rectangle 3" descr=""/>
          <p:cNvPicPr/>
          <p:nvPr/>
        </p:nvPicPr>
        <p:blipFill>
          <a:blip r:embed="rId1"/>
          <a:stretch/>
        </p:blipFill>
        <p:spPr>
          <a:xfrm>
            <a:off x="1504800" y="407880"/>
            <a:ext cx="6091560" cy="11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80880" y="803160"/>
          <a:ext cx="8382240" cy="5867640"/>
        </p:xfrm>
        <a:graphic>
          <a:graphicData uri="http://schemas.openxmlformats.org/drawingml/2006/table">
            <a:tbl>
              <a:tblPr/>
              <a:tblGrid>
                <a:gridCol w="2095560"/>
                <a:gridCol w="2781360"/>
                <a:gridCol w="1752480"/>
                <a:gridCol w="1752840"/>
              </a:tblGrid>
              <a:tr h="957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9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of roads, highways, and pathways</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w amount of roads could result in more car accidents, traffic jams, and a more dangerous environment for students.</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roads also mean that students have more ways of travelling home to visit their famil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s, diseases, and sickness in the area</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ing students of illnesses n the area allows them to know what they are getting into and allows them to have time to get vaccines before they leave for college. </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far from bodies of water will not have to deal with this as mosquitoes, who usually carry the most diseases, are mainly near bodies of water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Bayside (La Porte, TX) </a:t>
                      </a:r>
                      <a:r>
                        <a:rPr b="0" lang="en-US" sz="1000" spc="-1" strike="noStrike">
                          <a:solidFill>
                            <a:srgbClr val="000000"/>
                          </a:solidFill>
                          <a:latin typeface="Wingdings"/>
                          <a:ea typeface="Wingdings"/>
                        </a:rPr>
                        <a:t></a:t>
                      </a:r>
                      <a:r>
                        <a:rPr b="0" lang="en-US" sz="1000" spc="-1" strike="noStrike">
                          <a:solidFill>
                            <a:srgbClr val="000000"/>
                          </a:solidFill>
                          <a:latin typeface="Calibri"/>
                        </a:rPr>
                        <a:t> 12328 Bay Area Blvd.,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unt of housing complexes in the area divided by student popul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ust consider where they will live during the school year. If there are not many housing complexes but a very high student population, housing would cost a fortune and drive students away because of their financial status. These housing complexes also must be in a walking range of Orso Univers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5" name="Rectangle 5" descr=""/>
          <p:cNvPicPr/>
          <p:nvPr/>
        </p:nvPicPr>
        <p:blipFill>
          <a:blip r:embed="rId1"/>
          <a:stretch/>
        </p:blipFill>
        <p:spPr>
          <a:xfrm>
            <a:off x="-12600" y="-201600"/>
            <a:ext cx="9242280" cy="11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914400"/>
            <a:ext cx="8229600" cy="4525920"/>
          </a:xfrm>
          <a:prstGeom prst="rect">
            <a:avLst/>
          </a:prstGeom>
          <a:noFill/>
          <a:ln w="0">
            <a:noFill/>
          </a:ln>
        </p:spPr>
        <p:txBody>
          <a:bodyPr anchor="t">
            <a:normAutofit fontScale="82000"/>
          </a:bodyPr>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Set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loodplain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Watershed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ault data and mechanical weathering</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urricane storm surge and potential damage</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Land pric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rime data</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ch data set is the most important in building Orso University?</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me data is the most important because the safety of students has a huge impact on th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utation of the school. Students would not go to Orso University if there was a large crime rat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tudents are attacked frequently. Also, loss of life cannot be reversed. The other data sets can</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e fixed by paying for repairs. Hurricanes and floods can be avoided, although some students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hoose not to and may end up being injured.</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anking of Data Sets (Significant to Non-Signific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Crime data – Affects the school’s reputation, safety, and mainly affects the student’s decisio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Hurricane storm surge and potential damage – Can harm students, also highly import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ult data and mechanical weathering – Faults and mechanical weathering can cause serious damage to the university’s foundation. Constant repairs would be a hassle, costly, and might sometimes not be able to happe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Floodplains- The type of floodplain can affect everyone. It could be able to flood areas that would delay school, damage students’ and the  university’s property.</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Watersheds- Watersheds are used to store excessive water, but are not that important. The worst scenario with watersheds is that they will overflow into the streets. It isn’t as severe as hurricanes or storm surg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Land prices – The price for the land is not very important. It is a one-time cost that can be repaid later in the future.</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Rectangle 3" descr=""/>
          <p:cNvPicPr/>
          <p:nvPr/>
        </p:nvPicPr>
        <p:blipFill>
          <a:blip r:embed="rId1"/>
          <a:stretch/>
        </p:blipFill>
        <p:spPr>
          <a:xfrm>
            <a:off x="1352520" y="30240"/>
            <a:ext cx="6505560" cy="11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2"/>
          <p:cNvSpPr/>
          <p:nvPr/>
        </p:nvSpPr>
        <p:spPr>
          <a:xfrm>
            <a:off x="1143000" y="1752480"/>
            <a:ext cx="70102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4" name="TextBox 4"/>
          <p:cNvSpPr/>
          <p:nvPr/>
        </p:nvSpPr>
        <p:spPr>
          <a:xfrm>
            <a:off x="1371600" y="1295280"/>
            <a:ext cx="6248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will plate tectonics affect Orso University? Will faults be a probl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any physical features around the area where Orso University will be built? If so, are they attractive features or do they drive people a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enough space? Will there be room for students to drive their ca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university be affected by any natural disas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a lot of criminal activity around the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expenses that have to be paid to make and maintain the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5"/>
          <p:cNvSpPr/>
          <p:nvPr/>
        </p:nvSpPr>
        <p:spPr>
          <a:xfrm>
            <a:off x="396540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Rectangle 7" descr=""/>
          <p:cNvPicPr/>
          <p:nvPr/>
        </p:nvPicPr>
        <p:blipFill>
          <a:blip r:embed="rId1"/>
          <a:stretch/>
        </p:blipFill>
        <p:spPr>
          <a:xfrm>
            <a:off x="3541680" y="182520"/>
            <a:ext cx="193212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04920" y="1904760"/>
            <a:ext cx="8686800" cy="47242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1. Bayside (La Porte, TX) </a:t>
            </a:r>
            <a:r>
              <a:rPr b="0" lang="en-US" sz="3200" spc="-1" strike="noStrike">
                <a:solidFill>
                  <a:srgbClr val="898989"/>
                </a:solidFill>
                <a:latin typeface="Wingdings"/>
                <a:ea typeface="Wingdings"/>
              </a:rPr>
              <a:t></a:t>
            </a:r>
            <a:r>
              <a:rPr b="0" lang="en-US" sz="3200" spc="-1" strike="noStrike">
                <a:solidFill>
                  <a:srgbClr val="898989"/>
                </a:solidFill>
                <a:latin typeface="Calibri"/>
              </a:rPr>
              <a:t> 12328 Bay Area Blv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2. NE Houston (Huffman, TX) </a:t>
            </a:r>
            <a:r>
              <a:rPr b="0" lang="en-US" sz="3200" spc="-1" strike="noStrike">
                <a:solidFill>
                  <a:srgbClr val="898989"/>
                </a:solidFill>
                <a:latin typeface="Wingdings"/>
                <a:ea typeface="Wingdings"/>
              </a:rPr>
              <a:t></a:t>
            </a:r>
            <a:r>
              <a:rPr b="0" lang="en-US" sz="3200" spc="-1" strike="noStrike">
                <a:solidFill>
                  <a:srgbClr val="898989"/>
                </a:solidFill>
                <a:latin typeface="Calibri"/>
              </a:rPr>
              <a:t> 12688 FM 1960, Huffma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3. W. Tomball (Tomball, TX) </a:t>
            </a:r>
            <a:r>
              <a:rPr b="0" lang="en-US" sz="3200" spc="-1" strike="noStrike">
                <a:solidFill>
                  <a:srgbClr val="898989"/>
                </a:solidFill>
                <a:latin typeface="Wingdings"/>
                <a:ea typeface="Wingdings"/>
              </a:rPr>
              <a:t></a:t>
            </a:r>
            <a:r>
              <a:rPr b="0" lang="en-US" sz="3200" spc="-1" strike="noStrike">
                <a:solidFill>
                  <a:srgbClr val="898989"/>
                </a:solidFill>
                <a:latin typeface="Calibri"/>
              </a:rPr>
              <a:t> 29608 Liberty Ln., Tomball,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4. Downtown East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650 Oats R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5. Downtown Central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1400 Travis St., Houston, TX</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822240" y="639720"/>
            <a:ext cx="77612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914400" y="1600200"/>
          <a:ext cx="7020000" cy="4716360"/>
        </p:xfrm>
        <a:graphic>
          <a:graphicData uri="http://schemas.openxmlformats.org/drawingml/2006/table">
            <a:tbl>
              <a:tblPr/>
              <a:tblGrid>
                <a:gridCol w="1709640"/>
                <a:gridCol w="1811520"/>
                <a:gridCol w="1601640"/>
                <a:gridCol w="1897200"/>
              </a:tblGrid>
              <a:tr h="666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ype of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udent-created explanation of floodplain</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ocations of floodplain in </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anation of potenti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579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alley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Valley floodplain has a creek in the middle for water to run down to.</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rthwest in </a:t>
                      </a:r>
                      <a:r>
                        <a:rPr b="0" lang="en-US" sz="1200" spc="-1" strike="noStrike">
                          <a:solidFill>
                            <a:srgbClr val="000000"/>
                          </a:solidFill>
                          <a:latin typeface="Calibri"/>
                        </a:rPr>
                        <a:t>Harris County</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looding can be very deep and usually extends for a few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69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jor River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ouses are on stilts. The river slowly rises, while houses are above the water lin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San Jacinto </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iver</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floodplain is large, deep, and flooding conditions may sometimes last a week or more.</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71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hallow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re is a low point. The houses are equally level </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roughout most of the county</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hen the channel capacity is exceded, flooding begins, but usually lasts hours , rather than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astal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ructures are near the coast. Unusually high tides or hurricane surges can flood low-lying structure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Gulf Coas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comes in from hurricane surges or high tides. Ground subsidence can result in frequent and severe coast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3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fth Flooding Scenario</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loads in sewers and ditches and they can’t absorb any more water. Water begins to collect in the street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nywher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floods into the street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pic>
        <p:nvPicPr>
          <p:cNvPr id="50" name="Rectangle 17" descr=""/>
          <p:cNvPicPr/>
          <p:nvPr/>
        </p:nvPicPr>
        <p:blipFill>
          <a:blip r:embed="rId1"/>
          <a:stretch/>
        </p:blipFill>
        <p:spPr>
          <a:xfrm>
            <a:off x="1352520" y="407880"/>
            <a:ext cx="6675480" cy="11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152280" y="1522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Floodplain question: What is the strongest flood and what is the weak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nsw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00 year floods are the strong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0 year floods are in the midd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year floods are the weakest of the thre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3"/>
          <p:cNvSpPr/>
          <p:nvPr/>
        </p:nvSpPr>
        <p:spPr>
          <a:xfrm>
            <a:off x="228600" y="17524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Worst Floodplain Scenari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rst floodplain is the coastal floodplain. In a scenario of a hurricane coming, giant storm surges and high winds at their highest strength hitting Orso University would cause major damages to the campus, costing very much to repair and endangering all students and staff. Also, repairs and cleanup would take a lot of time, preventing students from attending school.</a:t>
            </a:r>
            <a:endParaRPr b="0" lang="en-US" sz="1800" spc="-1" strike="noStrike">
              <a:solidFill>
                <a:srgbClr val="000000"/>
              </a:solidFill>
              <a:latin typeface="Calibri"/>
            </a:endParaRPr>
          </a:p>
        </p:txBody>
      </p:sp>
      <p:sp>
        <p:nvSpPr>
          <p:cNvPr id="53" name="TextBox 4"/>
          <p:cNvSpPr/>
          <p:nvPr/>
        </p:nvSpPr>
        <p:spPr>
          <a:xfrm>
            <a:off x="457200" y="3657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Floodplains – From Best to Wor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1.Shallow floodplain – Requires the shortest time to recover. Flooding lasts only a few hours, school wouldn’t be affected very mu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2.Valley floodplain – Flooding lasts a few d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3.Major River floodplain – Flooding usually lasts for a wee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4.Coastal floodplain – Major damage can be done if a hurricane hi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457200" y="1371600"/>
          <a:ext cx="8153280" cy="4432320"/>
        </p:xfrm>
        <a:graphic>
          <a:graphicData uri="http://schemas.openxmlformats.org/drawingml/2006/table">
            <a:tbl>
              <a:tblPr/>
              <a:tblGrid>
                <a:gridCol w="1641600"/>
                <a:gridCol w="1716120"/>
                <a:gridCol w="1784160"/>
                <a:gridCol w="3011400"/>
              </a:tblGrid>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e of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ershed</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oding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254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marL="114480" marR="114480">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ear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4800" spc="-1" strike="noStrike">
                          <a:solidFill>
                            <a:srgbClr val="ff0000"/>
                          </a:solidFill>
                          <a:latin typeface="Times New Roman"/>
                          <a:ea typeface="Times New Roman"/>
                        </a:rPr>
                        <a:t>F</a:t>
                      </a:r>
                      <a:endParaRPr b="0" lang="en-US" sz="4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dar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ring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r>
                        <a:rPr b="0" lang="en-US" sz="1800" spc="-1" strike="noStrike">
                          <a:solidFill>
                            <a:srgbClr val="00b0f0"/>
                          </a:solidFill>
                          <a:latin typeface="Times New Roman"/>
                          <a:ea typeface="Times New Roman"/>
                        </a:rPr>
                        <a:t>B</a:t>
                      </a:r>
                      <a:endParaRPr b="0" lang="en-US" sz="1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ting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uffalo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55" name="Rectangle 5" descr=""/>
          <p:cNvPicPr/>
          <p:nvPr/>
        </p:nvPicPr>
        <p:blipFill>
          <a:blip r:embed="rId1"/>
          <a:stretch/>
        </p:blipFill>
        <p:spPr>
          <a:xfrm>
            <a:off x="1652760" y="30240"/>
            <a:ext cx="58514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3276720"/>
          <a:ext cx="8458200" cy="3197160"/>
        </p:xfrm>
        <a:graphic>
          <a:graphicData uri="http://schemas.openxmlformats.org/drawingml/2006/table">
            <a:tbl>
              <a:tblPr/>
              <a:tblGrid>
                <a:gridCol w="3522960"/>
                <a:gridCol w="1809720"/>
                <a:gridCol w="1617480"/>
                <a:gridCol w="1508040"/>
              </a:tblGrid>
              <a:tr h="5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of hurricane that would require an evacuatio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m surge height that would flood the campu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rricane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egory 3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 Fee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a:t>
                      </a:r>
                      <a:endParaRPr b="0" lang="en-US" sz="2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5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Times New Roman"/>
                        </a:rPr>
                        <a:t>B</a:t>
                      </a:r>
                      <a:endParaRPr b="0" lang="en-US" sz="20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7" name="TextBox 4"/>
          <p:cNvSpPr/>
          <p:nvPr/>
        </p:nvSpPr>
        <p:spPr>
          <a:xfrm>
            <a:off x="304920" y="914400"/>
            <a:ext cx="76197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m Surge Ques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is storm sur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 storm surge is a large dome of water , often 50-100 miles that sweeps across the coastline when the hurricane makes landf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y is storm surge such a huge problem in the Gulf of Mexico instead of places like the Atlantic Oce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The water on the shoreline of the Gulf of Mexico is shallower, making the storm surge stronge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three causes of storm surg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reas of high and low press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Wav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Current actions associated with the ti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makes storm surge so devastatin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It sweeps everything in its path awa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8" name="Rectangle 5" descr=""/>
          <p:cNvPicPr/>
          <p:nvPr/>
        </p:nvPicPr>
        <p:blipFill>
          <a:blip r:embed="rId1"/>
          <a:stretch/>
        </p:blipFill>
        <p:spPr>
          <a:xfrm>
            <a:off x="1573200" y="30240"/>
            <a:ext cx="619920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762120" y="1295280"/>
          <a:ext cx="8153280" cy="4632480"/>
        </p:xfrm>
        <a:graphic>
          <a:graphicData uri="http://schemas.openxmlformats.org/drawingml/2006/table">
            <a:tbl>
              <a:tblPr/>
              <a:tblGrid>
                <a:gridCol w="2717640"/>
                <a:gridCol w="2710080"/>
                <a:gridCol w="2725560"/>
              </a:tblGrid>
              <a:tr h="533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ults Nearby (High, Medium, Low)</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ed Repair Costs</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1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agnolia Fault, Ship Channel Fault, Battleground Fault, Fault) </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19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 Fault, Pecore Fault, Fault, Magnolia Fault, Ship Channel Fault, Battleground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um ( Fault, Pecore Fault, Fault, Magnolia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60" name="Rectangle 3" descr=""/>
          <p:cNvPicPr/>
          <p:nvPr/>
        </p:nvPicPr>
        <p:blipFill>
          <a:blip r:embed="rId1"/>
          <a:stretch/>
        </p:blipFill>
        <p:spPr>
          <a:xfrm>
            <a:off x="1500120" y="-49320"/>
            <a:ext cx="6302520" cy="11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304920"/>
            <a:ext cx="9448920" cy="387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ult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link for the questions belo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hcfcd.org/news/2006-1120.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images included on the map are examples of which kind of weathe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Physical weathe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far are Harris County’s faults moving per year?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0.2 – 0.8 inches a year.</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would faults and weathering impact your University?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Cracks would appear, foundation of the university would be damaged, safety hazards may arise</a:t>
            </a:r>
            <a:r>
              <a:rPr b="0" lang="en-US" sz="1800" spc="-1" strike="noStrike">
                <a:solidFill>
                  <a:srgbClr val="000000"/>
                </a:solidFill>
                <a:latin typeface="Calibri"/>
              </a:rPr>
              <a:t>.</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3"/>
          <p:cNvSpPr/>
          <p:nvPr/>
        </p:nvSpPr>
        <p:spPr>
          <a:xfrm>
            <a:off x="152280" y="3733920"/>
            <a:ext cx="883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that can be caused by faults are property damage, foundation instability, safety hazards, unattractive cracks, cracks that can be widened with physical weathering.</a:t>
            </a:r>
            <a:endParaRPr b="0" lang="en-US" sz="1800" spc="-1" strike="noStrike">
              <a:solidFill>
                <a:srgbClr val="000000"/>
              </a:solidFill>
              <a:latin typeface="Calibri"/>
            </a:endParaRPr>
          </a:p>
        </p:txBody>
      </p:sp>
      <p:sp>
        <p:nvSpPr>
          <p:cNvPr id="63" name="TextBox 4"/>
          <p:cNvSpPr/>
          <p:nvPr/>
        </p:nvSpPr>
        <p:spPr>
          <a:xfrm>
            <a:off x="380880" y="4572000"/>
            <a:ext cx="815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king (Best to Worst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 Tomball – No faults, very little maintenance needed for fault repairs, Orso University would last the longest h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 Houston – One small fault. Damages are not very sev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Central – Several faults. Damages can build up.</a:t>
            </a:r>
            <a:endParaRPr b="0" lang="en-US" sz="18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Bayside – High number of faults. Damage repair costs are estimated to be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East – Most amount of faults. Damage repairs </a:t>
            </a:r>
            <a:r>
              <a:rPr b="1" lang="en-US" sz="1800" spc="-1" strike="noStrike">
                <a:solidFill>
                  <a:srgbClr val="000000"/>
                </a:solidFill>
                <a:latin typeface="Calibri"/>
              </a:rPr>
              <a:t>will</a:t>
            </a:r>
            <a:r>
              <a:rPr b="0" lang="en-US" sz="1800" spc="-1" strike="noStrike">
                <a:solidFill>
                  <a:srgbClr val="000000"/>
                </a:solidFill>
                <a:latin typeface="Calibri"/>
              </a:rPr>
              <a:t> be very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0:56:21Z</dcterms:created>
  <dc:creator>John</dc:creator>
  <dc:description/>
  <dc:language>en-US</dc:language>
  <cp:lastModifiedBy>John</cp:lastModifiedBy>
  <dcterms:modified xsi:type="dcterms:W3CDTF">2008-09-25T04:27:28Z</dcterms:modified>
  <cp:revision>22</cp:revision>
  <dc:subject/>
  <dc:title>Slide 1</dc:title>
</cp:coreProperties>
</file>