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390B2-6C6C-4B5B-A0B4-46DF70C84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BB141-940D-4747-A9F7-037DDBEB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03533-7145-4421-AA27-9CF5E9CAE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338B0-9F6A-4715-AE59-02314951A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F972C-3135-4338-9B2D-969F072A5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3AAC-40E8-451F-8B1D-F7C9FFE0E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E56DA-F628-420B-8ECE-B8627A251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979A9-07EA-4AC1-9F92-6B2C61703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326B0-A8FD-4A57-8020-C84606F4A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36DA-B480-4341-A54D-1B62D94A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9B411-E2C4-4D0F-9AC3-D98F7FB6A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7E85-5326-4C45-8567-D033950C0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0B20-DCE5-4C80-9DB6-DDF51EC165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89040" y="-92160"/>
            <a:ext cx="7613640" cy="6108840"/>
          </a:xfrm>
          <a:prstGeom prst="rect">
            <a:avLst/>
          </a:prstGeom>
          <a:ln w="0">
            <a:noFill/>
          </a:ln>
        </p:spPr>
      </p:pic>
      <p:sp>
        <p:nvSpPr>
          <p:cNvPr id="42" name="TextBox 4"/>
          <p:cNvSpPr/>
          <p:nvPr/>
        </p:nvSpPr>
        <p:spPr>
          <a:xfrm>
            <a:off x="6248520" y="5486400"/>
            <a:ext cx="3047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eremy Ph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iod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ld Geography - Ors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304920" y="1219320"/>
            <a:ext cx="403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ayers to be Added to Crime Map</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Amount of law-enforcement in an area</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ate and time of previous crimes</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Closest facility for medical treatment</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 name=""/>
          <p:cNvGraphicFramePr/>
          <p:nvPr/>
        </p:nvGraphicFramePr>
        <p:xfrm>
          <a:off x="1066680" y="2666880"/>
          <a:ext cx="7467840" cy="3886200"/>
        </p:xfrm>
        <a:graphic>
          <a:graphicData uri="http://schemas.openxmlformats.org/drawingml/2006/table">
            <a:tbl>
              <a:tblPr/>
              <a:tblGrid>
                <a:gridCol w="2229120"/>
                <a:gridCol w="965160"/>
                <a:gridCol w="965160"/>
                <a:gridCol w="3308400"/>
              </a:tblGrid>
              <a:tr h="646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of Rape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of Murder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me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611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23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11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10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8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66" name="TextBox 4"/>
          <p:cNvSpPr/>
          <p:nvPr/>
        </p:nvSpPr>
        <p:spPr>
          <a:xfrm>
            <a:off x="4495680" y="1219320"/>
            <a:ext cx="4419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How can this be us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Crime data can be used to analyze the risks of normal activities. If the crime level is high, there is a higher chance that students will be attacked, therefore making the school look bad and preventing future college students from attending Orso University.</a:t>
            </a:r>
            <a:endParaRPr b="0" lang="en-US" sz="1400" spc="-1" strike="noStrike">
              <a:solidFill>
                <a:srgbClr val="000000"/>
              </a:solidFill>
              <a:latin typeface="Calibri"/>
            </a:endParaRPr>
          </a:p>
        </p:txBody>
      </p:sp>
      <p:pic>
        <p:nvPicPr>
          <p:cNvPr id="67" name="Rectangle 5" descr=""/>
          <p:cNvPicPr/>
          <p:nvPr/>
        </p:nvPicPr>
        <p:blipFill>
          <a:blip r:embed="rId1"/>
          <a:stretch/>
        </p:blipFill>
        <p:spPr>
          <a:xfrm>
            <a:off x="1871640" y="103320"/>
            <a:ext cx="5083200" cy="11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1828800" y="1295280"/>
          <a:ext cx="5624640" cy="3843360"/>
        </p:xfrm>
        <a:graphic>
          <a:graphicData uri="http://schemas.openxmlformats.org/drawingml/2006/table">
            <a:tbl>
              <a:tblPr/>
              <a:tblGrid>
                <a:gridCol w="2811600"/>
                <a:gridCol w="2813040"/>
              </a:tblGrid>
              <a:tr h="45720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ocation</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d Price (per acre)</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1: Bayside</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2: </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3: </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4: Downtown East</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932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5: Downtown Central</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5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TextBox 5"/>
          <p:cNvSpPr/>
          <p:nvPr/>
        </p:nvSpPr>
        <p:spPr>
          <a:xfrm>
            <a:off x="685800" y="5486400"/>
            <a:ext cx="7848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Calibri"/>
              </a:rPr>
              <a:t>How can this be us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This information can be used to determine how big the school will be, and would affect the recruitment of students who wish to attend a big school or a small school. The land prices may also indirectly affect the tuition fees of student courses. If the land price is very high, the university may have to charge students more money for their classes to pay off the cost of the land.</a:t>
            </a:r>
            <a:endParaRPr b="0" lang="en-US" sz="1400" spc="-1" strike="noStrike">
              <a:solidFill>
                <a:srgbClr val="000000"/>
              </a:solidFill>
              <a:latin typeface="Calibri"/>
            </a:endParaRPr>
          </a:p>
        </p:txBody>
      </p:sp>
      <p:pic>
        <p:nvPicPr>
          <p:cNvPr id="71" name="Rectangle 6" descr=""/>
          <p:cNvPicPr/>
          <p:nvPr/>
        </p:nvPicPr>
        <p:blipFill>
          <a:blip r:embed="rId1"/>
          <a:stretch/>
        </p:blipFill>
        <p:spPr>
          <a:xfrm>
            <a:off x="1427040" y="182520"/>
            <a:ext cx="6332760" cy="112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2362320"/>
            <a:ext cx="8076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ing information gathered from the crime analysis and the land price analysis, the Board of Directors must consider hiring security for the students around the campus. The cost of the security would be affected by the land price because more security would be needed to protect a larger area. The land price must be considered also because if the land is too expensive, there may be no money left to actually build the univers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 using this information, they must also consider ways of generating income to pay off the costs of security, land, labor, construction, and all other factors needed.</a:t>
            </a:r>
            <a:endParaRPr b="0" lang="en-US" sz="1800" spc="-1" strike="noStrike">
              <a:solidFill>
                <a:srgbClr val="000000"/>
              </a:solidFill>
              <a:latin typeface="Calibri"/>
            </a:endParaRPr>
          </a:p>
        </p:txBody>
      </p:sp>
      <p:pic>
        <p:nvPicPr>
          <p:cNvPr id="73" name="Rectangle 3" descr=""/>
          <p:cNvPicPr/>
          <p:nvPr/>
        </p:nvPicPr>
        <p:blipFill>
          <a:blip r:embed="rId1"/>
          <a:stretch/>
        </p:blipFill>
        <p:spPr>
          <a:xfrm>
            <a:off x="1504800" y="407880"/>
            <a:ext cx="6091560" cy="11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380880" y="803160"/>
          <a:ext cx="8382240" cy="5867640"/>
        </p:xfrm>
        <a:graphic>
          <a:graphicData uri="http://schemas.openxmlformats.org/drawingml/2006/table">
            <a:tbl>
              <a:tblPr/>
              <a:tblGrid>
                <a:gridCol w="2095560"/>
                <a:gridCol w="2781360"/>
                <a:gridCol w="1752480"/>
                <a:gridCol w="1752840"/>
              </a:tblGrid>
              <a:tr h="957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9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of roads, highways, and pathways</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w amount of roads could result in more car accidents, traffic jams, and a more dangerous environment for students.</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roads also mean that students have more ways of travelling home to visit their famil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Downtown Central (Houston, TX) </a:t>
                      </a:r>
                      <a:r>
                        <a:rPr b="0" lang="en-US" sz="1000" spc="-1" strike="noStrike">
                          <a:solidFill>
                            <a:srgbClr val="000000"/>
                          </a:solidFill>
                          <a:latin typeface="Wingdings"/>
                          <a:ea typeface="Wingdings"/>
                        </a:rPr>
                        <a:t></a:t>
                      </a:r>
                      <a:r>
                        <a:rPr b="0" lang="en-US" sz="1000" spc="-1" strike="noStrike">
                          <a:solidFill>
                            <a:srgbClr val="000000"/>
                          </a:solidFill>
                          <a:latin typeface="Calibri"/>
                        </a:rPr>
                        <a:t> 1400 Travis St.,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s, diseases, and sickness in the area</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ling students of illnesses n the area allows them to know what they are getting into and allows them to have time to get vaccines before they leave for college. </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far from bodies of water will not have to deal with this as mosquitoes, who usually carry the most diseases, are mainly near bodies of water .</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Bayside (La Porte, TX) </a:t>
                      </a:r>
                      <a:r>
                        <a:rPr b="0" lang="en-US" sz="1000" spc="-1" strike="noStrike">
                          <a:solidFill>
                            <a:srgbClr val="000000"/>
                          </a:solidFill>
                          <a:latin typeface="Wingdings"/>
                          <a:ea typeface="Wingdings"/>
                        </a:rPr>
                        <a:t></a:t>
                      </a:r>
                      <a:r>
                        <a:rPr b="0" lang="en-US" sz="1000" spc="-1" strike="noStrike">
                          <a:solidFill>
                            <a:srgbClr val="000000"/>
                          </a:solidFill>
                          <a:latin typeface="Calibri"/>
                        </a:rPr>
                        <a:t> 12328 Bay Area Blvd.,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5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unt of housing complexes in the area divided by student population</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ust consider where they will live during the school year. If there are not many housing complexes but a very high student population, housing would cost a fortune and drive students away because of their financial status. These housing complexes also must be in a walking range of Orso Universit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Downtown Central (Houston, TX) </a:t>
                      </a:r>
                      <a:r>
                        <a:rPr b="0" lang="en-US" sz="1000" spc="-1" strike="noStrike">
                          <a:solidFill>
                            <a:srgbClr val="000000"/>
                          </a:solidFill>
                          <a:latin typeface="Wingdings"/>
                          <a:ea typeface="Wingdings"/>
                        </a:rPr>
                        <a:t></a:t>
                      </a:r>
                      <a:r>
                        <a:rPr b="0" lang="en-US" sz="1000" spc="-1" strike="noStrike">
                          <a:solidFill>
                            <a:srgbClr val="000000"/>
                          </a:solidFill>
                          <a:latin typeface="Calibri"/>
                        </a:rPr>
                        <a:t> 1400 Travis St.,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5" name="Rectangle 5" descr=""/>
          <p:cNvPicPr/>
          <p:nvPr/>
        </p:nvPicPr>
        <p:blipFill>
          <a:blip r:embed="rId1"/>
          <a:stretch/>
        </p:blipFill>
        <p:spPr>
          <a:xfrm>
            <a:off x="-12600" y="-201600"/>
            <a:ext cx="9242280" cy="112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914400"/>
            <a:ext cx="8229600" cy="4525920"/>
          </a:xfrm>
          <a:prstGeom prst="rect">
            <a:avLst/>
          </a:prstGeom>
          <a:noFill/>
          <a:ln w="0">
            <a:noFill/>
          </a:ln>
        </p:spPr>
        <p:txBody>
          <a:bodyPr anchor="t">
            <a:normAutofit fontScale="82000"/>
          </a:bodyPr>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ata Set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Floodplain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Watershed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Fault data and mechanical weathering</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Hurricane storm surge and potential damage</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Land price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rime data</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hich data set is the most important in building Orso University?</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ime data is the most important because the safety of students has a huge impact on the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utation of the school. Students would not go to Orso University if there was a large crime rate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students are attacked frequently. Also, loss of life cannot be reversed. The other data sets can</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e fixed by paying for repairs. Hurricanes and floods can be avoided, although some students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choose not to and may end up being injured.</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Ranking of Data Sets (Significant to Non-Significant)</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Crime data – Affects the school’s reputation, safety, and mainly affects the student’s decision</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Hurricane storm surge and potential damage – Can harm students, also highly important</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ult data and mechanical weathering – Faults and mechanical weathering can cause serious damage to the university’s foundation. Constant repairs would be a hassle, costly, and might sometimes not be able to happen.</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Floodplains- The type of floodplain can affect everyone. It could be able to flood areas that would delay school, damage students’ and the  university’s property.</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Watersheds- Watersheds are used to store excessive water, but are not that important. The worst scenario with watersheds is that they will overflow into the streets. It isn’t as severe as hurricanes or storm surge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Land prices – The price for the land is not very important. It is a one-time cost that can be repaid later in the future.</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7" name="Rectangle 3" descr=""/>
          <p:cNvPicPr/>
          <p:nvPr/>
        </p:nvPicPr>
        <p:blipFill>
          <a:blip r:embed="rId1"/>
          <a:stretch/>
        </p:blipFill>
        <p:spPr>
          <a:xfrm>
            <a:off x="1352520" y="30240"/>
            <a:ext cx="6505560" cy="11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2"/>
          <p:cNvSpPr/>
          <p:nvPr/>
        </p:nvSpPr>
        <p:spPr>
          <a:xfrm>
            <a:off x="1143000" y="1752480"/>
            <a:ext cx="70102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4" name="TextBox 4"/>
          <p:cNvSpPr/>
          <p:nvPr/>
        </p:nvSpPr>
        <p:spPr>
          <a:xfrm>
            <a:off x="1371600" y="1295280"/>
            <a:ext cx="6248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will plate tectonics affect Orso University? Will faults be a probl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re any physical features around the area where Orso University will be built? If so, are they attractive features or do they drive people a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enough space? Will there be room for students to drive their ca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the university be affected by any natural disas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a lot of criminal activity around the a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expenses that have to be paid to make and maintain the un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5"/>
          <p:cNvSpPr/>
          <p:nvPr/>
        </p:nvSpPr>
        <p:spPr>
          <a:xfrm>
            <a:off x="396540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Rectangle 7" descr=""/>
          <p:cNvPicPr/>
          <p:nvPr/>
        </p:nvPicPr>
        <p:blipFill>
          <a:blip r:embed="rId1"/>
          <a:stretch/>
        </p:blipFill>
        <p:spPr>
          <a:xfrm>
            <a:off x="3541680" y="182520"/>
            <a:ext cx="193212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04920" y="1904760"/>
            <a:ext cx="8686800" cy="472428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1. Bayside (La Porte, TX) </a:t>
            </a:r>
            <a:r>
              <a:rPr b="0" lang="en-US" sz="3200" spc="-1" strike="noStrike">
                <a:solidFill>
                  <a:srgbClr val="898989"/>
                </a:solidFill>
                <a:latin typeface="Wingdings"/>
                <a:ea typeface="Wingdings"/>
              </a:rPr>
              <a:t></a:t>
            </a:r>
            <a:r>
              <a:rPr b="0" lang="en-US" sz="3200" spc="-1" strike="noStrike">
                <a:solidFill>
                  <a:srgbClr val="898989"/>
                </a:solidFill>
                <a:latin typeface="Calibri"/>
              </a:rPr>
              <a:t> 12328 Bay Area Blvd., Housto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2. NE Houston (Huffman, TX) </a:t>
            </a:r>
            <a:r>
              <a:rPr b="0" lang="en-US" sz="3200" spc="-1" strike="noStrike">
                <a:solidFill>
                  <a:srgbClr val="898989"/>
                </a:solidFill>
                <a:latin typeface="Wingdings"/>
                <a:ea typeface="Wingdings"/>
              </a:rPr>
              <a:t></a:t>
            </a:r>
            <a:r>
              <a:rPr b="0" lang="en-US" sz="3200" spc="-1" strike="noStrike">
                <a:solidFill>
                  <a:srgbClr val="898989"/>
                </a:solidFill>
                <a:latin typeface="Calibri"/>
              </a:rPr>
              <a:t> 12688 FM 1960, Huffma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3. W. Tomball (Tomball, TX) </a:t>
            </a:r>
            <a:r>
              <a:rPr b="0" lang="en-US" sz="3200" spc="-1" strike="noStrike">
                <a:solidFill>
                  <a:srgbClr val="898989"/>
                </a:solidFill>
                <a:latin typeface="Wingdings"/>
                <a:ea typeface="Wingdings"/>
              </a:rPr>
              <a:t></a:t>
            </a:r>
            <a:r>
              <a:rPr b="0" lang="en-US" sz="3200" spc="-1" strike="noStrike">
                <a:solidFill>
                  <a:srgbClr val="898989"/>
                </a:solidFill>
                <a:latin typeface="Calibri"/>
              </a:rPr>
              <a:t> 29608 Liberty Ln., Tomball,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4. Downtown East (Houston, TX) </a:t>
            </a:r>
            <a:r>
              <a:rPr b="0" lang="en-US" sz="3200" spc="-1" strike="noStrike">
                <a:solidFill>
                  <a:srgbClr val="898989"/>
                </a:solidFill>
                <a:latin typeface="Wingdings"/>
                <a:ea typeface="Wingdings"/>
              </a:rPr>
              <a:t></a:t>
            </a:r>
            <a:r>
              <a:rPr b="0" lang="en-US" sz="3200" spc="-1" strike="noStrike">
                <a:solidFill>
                  <a:srgbClr val="898989"/>
                </a:solidFill>
                <a:latin typeface="Calibri"/>
              </a:rPr>
              <a:t> 650 Oats Rd., Housto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5. Downtown Central (Houston, TX) </a:t>
            </a:r>
            <a:r>
              <a:rPr b="0" lang="en-US" sz="3200" spc="-1" strike="noStrike">
                <a:solidFill>
                  <a:srgbClr val="898989"/>
                </a:solidFill>
                <a:latin typeface="Wingdings"/>
                <a:ea typeface="Wingdings"/>
              </a:rPr>
              <a:t></a:t>
            </a:r>
            <a:r>
              <a:rPr b="0" lang="en-US" sz="3200" spc="-1" strike="noStrike">
                <a:solidFill>
                  <a:srgbClr val="898989"/>
                </a:solidFill>
                <a:latin typeface="Calibri"/>
              </a:rPr>
              <a:t> 1400 Travis St., Houston, TX</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Rectangle 3" descr=""/>
          <p:cNvPicPr/>
          <p:nvPr/>
        </p:nvPicPr>
        <p:blipFill>
          <a:blip r:embed="rId1"/>
          <a:stretch/>
        </p:blipFill>
        <p:spPr>
          <a:xfrm>
            <a:off x="822240" y="639720"/>
            <a:ext cx="776124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914400" y="1600200"/>
          <a:ext cx="7020000" cy="4716360"/>
        </p:xfrm>
        <a:graphic>
          <a:graphicData uri="http://schemas.openxmlformats.org/drawingml/2006/table">
            <a:tbl>
              <a:tblPr/>
              <a:tblGrid>
                <a:gridCol w="1709640"/>
                <a:gridCol w="1811520"/>
                <a:gridCol w="1601640"/>
                <a:gridCol w="1897200"/>
              </a:tblGrid>
              <a:tr h="666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ype of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udent-created explanation of floodplain</a:t>
                      </a:r>
                      <a:endParaRPr b="0" lang="en-US" sz="11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ocations of floodplain in </a:t>
                      </a:r>
                      <a:endParaRPr b="0" lang="en-US" sz="11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anation of potential flooding</a:t>
                      </a:r>
                      <a:endParaRPr b="0" lang="en-US" sz="11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579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Valley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Valley floodplain has a creek in the middle for water to run down to.</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rthwest in </a:t>
                      </a:r>
                      <a:r>
                        <a:rPr b="0" lang="en-US" sz="1200" spc="-1" strike="noStrike">
                          <a:solidFill>
                            <a:srgbClr val="000000"/>
                          </a:solidFill>
                          <a:latin typeface="Calibri"/>
                        </a:rPr>
                        <a:t>Harris County</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looding can be very deep and usually extends for a few day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69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ajor River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ouses are on stilts. The river slowly rises, while houses are above the water line.</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ong the </a:t>
                      </a:r>
                      <a:r>
                        <a:rPr b="0" lang="en-US" sz="1200" spc="-1" strike="noStrike">
                          <a:solidFill>
                            <a:srgbClr val="000000"/>
                          </a:solidFill>
                          <a:latin typeface="Calibri"/>
                        </a:rPr>
                        <a:t>San Jacinto </a:t>
                      </a: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iver</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floodplain is large, deep, and flooding conditions may sometimes last a week or more.</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71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hallow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re is a low point. The houses are equally level </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roughout most of the county</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hen the channel capacity is exceded, flooding begins, but usually lasts hours , rather than day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965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astal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tructures are near the coast. Unusually high tides or hurricane surges can flood low-lying structures.</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ong the  </a:t>
                      </a:r>
                      <a:r>
                        <a:rPr b="0" lang="en-US" sz="1200" spc="-1" strike="noStrike">
                          <a:solidFill>
                            <a:srgbClr val="000000"/>
                          </a:solidFill>
                          <a:latin typeface="Calibri"/>
                        </a:rPr>
                        <a:t>Gulf Coas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comes in from hurricane surges or high tides. Ground subsidence can result in frequent and severe coastal flooding.</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963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fth Flooding Scenario</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overloads in sewers and ditches and they can’t absorb any more water. Water begins to collect in the streets.</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nywhere</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overfloods into the street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pic>
        <p:nvPicPr>
          <p:cNvPr id="50" name="Rectangle 17" descr=""/>
          <p:cNvPicPr/>
          <p:nvPr/>
        </p:nvPicPr>
        <p:blipFill>
          <a:blip r:embed="rId1"/>
          <a:stretch/>
        </p:blipFill>
        <p:spPr>
          <a:xfrm>
            <a:off x="1352520" y="407880"/>
            <a:ext cx="6675480" cy="11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152280" y="15228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Floodplain question: What is the strongest flood and what is the weake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nsw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500 year floods are the stronge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0 year floods are in the midd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 year floods are the weakest of the thre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3"/>
          <p:cNvSpPr/>
          <p:nvPr/>
        </p:nvSpPr>
        <p:spPr>
          <a:xfrm>
            <a:off x="228600" y="17524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rPr>
              <a:t>Worst Floodplain Scenari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worst floodplain is the coastal floodplain. In a scenario of a hurricane coming, giant storm surges and high winds at their highest strength hitting Orso University would cause major damages to the campus, costing very much to repair and endangering all students and staff. Also, repairs and cleanup would take a lot of time, preventing students from attending school.</a:t>
            </a:r>
            <a:endParaRPr b="0" lang="en-US" sz="1800" spc="-1" strike="noStrike">
              <a:solidFill>
                <a:srgbClr val="000000"/>
              </a:solidFill>
              <a:latin typeface="Calibri"/>
            </a:endParaRPr>
          </a:p>
        </p:txBody>
      </p:sp>
      <p:sp>
        <p:nvSpPr>
          <p:cNvPr id="53" name="TextBox 4"/>
          <p:cNvSpPr/>
          <p:nvPr/>
        </p:nvSpPr>
        <p:spPr>
          <a:xfrm>
            <a:off x="457200" y="3657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Floodplains – From Best to Wor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1.Shallow floodplain – Requires the shortest time to recover. Flooding lasts only a few hours, school wouldn’t be affected very mu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2.Valley floodplain – Flooding lasts a few day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3.Major River floodplain – Flooding usually lasts for a wee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4.Coastal floodplain – Major damage can be done if a hurricane hi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457200" y="1371600"/>
          <a:ext cx="8153280" cy="4432320"/>
        </p:xfrm>
        <a:graphic>
          <a:graphicData uri="http://schemas.openxmlformats.org/drawingml/2006/table">
            <a:tbl>
              <a:tblPr/>
              <a:tblGrid>
                <a:gridCol w="1641600"/>
                <a:gridCol w="1716120"/>
                <a:gridCol w="1784160"/>
                <a:gridCol w="3011400"/>
              </a:tblGrid>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e of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tershed</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oding Threat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82548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txBody>
                  <a:tcPr anchor="t" marL="114480" marR="114480">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ear Cree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4800" spc="-1" strike="noStrike">
                          <a:solidFill>
                            <a:srgbClr val="ff0000"/>
                          </a:solidFill>
                          <a:latin typeface="Times New Roman"/>
                          <a:ea typeface="Times New Roman"/>
                        </a:rPr>
                        <a:t>F</a:t>
                      </a:r>
                      <a:endParaRPr b="0" lang="en-US" sz="4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1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edar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2400" spc="-1" strike="noStrike">
                          <a:solidFill>
                            <a:srgbClr val="92d050"/>
                          </a:solidFill>
                          <a:latin typeface="Times New Roman"/>
                          <a:ea typeface="Times New Roman"/>
                        </a:rPr>
                        <a:t>C</a:t>
                      </a:r>
                      <a:endParaRPr b="0" lang="en-US" sz="24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a of lowest ris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ring Cree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r>
                        <a:rPr b="0" lang="en-US" sz="1800" spc="-1" strike="noStrike">
                          <a:solidFill>
                            <a:srgbClr val="00b0f0"/>
                          </a:solidFill>
                          <a:latin typeface="Times New Roman"/>
                          <a:ea typeface="Times New Roman"/>
                        </a:rPr>
                        <a:t>B</a:t>
                      </a:r>
                      <a:endParaRPr b="0" lang="en-US" sz="1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unting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Times New Roman"/>
                          <a:ea typeface="Times New Roman"/>
                        </a:rPr>
                        <a:t> </a:t>
                      </a:r>
                      <a:r>
                        <a:rPr b="0" lang="en-US" sz="2400" spc="-1" strike="noStrike">
                          <a:solidFill>
                            <a:srgbClr val="92d050"/>
                          </a:solidFill>
                          <a:latin typeface="Times New Roman"/>
                          <a:ea typeface="Times New Roman"/>
                        </a:rPr>
                        <a:t>C</a:t>
                      </a:r>
                      <a:endParaRPr b="0" lang="en-US" sz="24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ea of lowest ris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uffalo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55" name="Rectangle 5" descr=""/>
          <p:cNvPicPr/>
          <p:nvPr/>
        </p:nvPicPr>
        <p:blipFill>
          <a:blip r:embed="rId1"/>
          <a:stretch/>
        </p:blipFill>
        <p:spPr>
          <a:xfrm>
            <a:off x="1652760" y="30240"/>
            <a:ext cx="585144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380880" y="3276720"/>
          <a:ext cx="8458200" cy="3197160"/>
        </p:xfrm>
        <a:graphic>
          <a:graphicData uri="http://schemas.openxmlformats.org/drawingml/2006/table">
            <a:tbl>
              <a:tblPr/>
              <a:tblGrid>
                <a:gridCol w="3522960"/>
                <a:gridCol w="1809720"/>
                <a:gridCol w="1617480"/>
                <a:gridCol w="1508040"/>
              </a:tblGrid>
              <a:tr h="577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egory of hurricane that would require an evacuation</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orm surge height that would flood the campu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rricane Threat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48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tegory 3 and abov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 Fee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D</a:t>
                      </a:r>
                      <a:endParaRPr b="0" lang="en-US" sz="2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48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egory 5 and abov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imes New Roman"/>
                          <a:ea typeface="Times New Roman"/>
                        </a:rPr>
                        <a:t>B</a:t>
                      </a:r>
                      <a:endParaRPr b="0" lang="en-US" sz="20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57" name="TextBox 4"/>
          <p:cNvSpPr/>
          <p:nvPr/>
        </p:nvSpPr>
        <p:spPr>
          <a:xfrm>
            <a:off x="304920" y="914400"/>
            <a:ext cx="761976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m Surge Quest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is storm sur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A storm surge is a large dome of water , often 50-100 miles that sweeps across the coastline when the hurricane makes landfal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y is storm surge such a huge problem in the Gulf of Mexico instead of places like the Atlantic Ocea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The water on the shoreline of the Gulf of Mexico is shallower, making the storm surge stronge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are three causes of storm surg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Areas of high and low pressu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Wav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Current actions associated with the tid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makes storm surge so devastating?</a:t>
            </a: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It sweeps everything in its path away.</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8" name="Rectangle 5" descr=""/>
          <p:cNvPicPr/>
          <p:nvPr/>
        </p:nvPicPr>
        <p:blipFill>
          <a:blip r:embed="rId1"/>
          <a:stretch/>
        </p:blipFill>
        <p:spPr>
          <a:xfrm>
            <a:off x="1573200" y="30240"/>
            <a:ext cx="619920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762120" y="1295280"/>
          <a:ext cx="8153280" cy="4632480"/>
        </p:xfrm>
        <a:graphic>
          <a:graphicData uri="http://schemas.openxmlformats.org/drawingml/2006/table">
            <a:tbl>
              <a:tblPr/>
              <a:tblGrid>
                <a:gridCol w="2717640"/>
                <a:gridCol w="2710080"/>
                <a:gridCol w="2725560"/>
              </a:tblGrid>
              <a:tr h="533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ults Nearby (High, Medium, Low)</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ed Repair Costs</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817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Magnolia Fault, Ship Channel Fault, Battleground Fault, Fault) </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 (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 (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19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 Fault, Pecore Fault, Fault, Magnolia Fault, Ship Channel Fault, Battleground Faul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um ( Fault, Pecore Fault, Fault, Magnolia Faul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60" name="Rectangle 3" descr=""/>
          <p:cNvPicPr/>
          <p:nvPr/>
        </p:nvPicPr>
        <p:blipFill>
          <a:blip r:embed="rId1"/>
          <a:stretch/>
        </p:blipFill>
        <p:spPr>
          <a:xfrm>
            <a:off x="1500120" y="-49320"/>
            <a:ext cx="6302520" cy="11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0" y="304920"/>
            <a:ext cx="9448920" cy="387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ult Ques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is link for the questions belo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hcfcd.org/news/2006-1120.htm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images included on the map are examples of which kind of weathe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Physical weathe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How far are Harris County’s faults moving per year?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US" sz="1800" spc="-1" strike="noStrike">
                <a:solidFill>
                  <a:srgbClr val="0070c0"/>
                </a:solidFill>
                <a:latin typeface="Calibri"/>
              </a:rPr>
              <a:t>0.2 – 0.8 inches a year.</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How would faults and weathering impact your University?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US" sz="1800" spc="-1" strike="noStrike">
                <a:solidFill>
                  <a:srgbClr val="0070c0"/>
                </a:solidFill>
                <a:latin typeface="Calibri"/>
              </a:rPr>
              <a:t>Cracks would appear, foundation of the university would be damaged, safety hazards may arise</a:t>
            </a:r>
            <a:r>
              <a:rPr b="0" lang="en-US" sz="1800" spc="-1" strike="noStrike">
                <a:solidFill>
                  <a:srgbClr val="000000"/>
                </a:solidFill>
                <a:latin typeface="Calibri"/>
              </a:rPr>
              <a:t>.</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3"/>
          <p:cNvSpPr/>
          <p:nvPr/>
        </p:nvSpPr>
        <p:spPr>
          <a:xfrm>
            <a:off x="152280" y="3733920"/>
            <a:ext cx="883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s that can be caused by faults are property damage, foundation instability, safety hazards, unattractive cracks, cracks that can be widened with physical weathering.</a:t>
            </a:r>
            <a:endParaRPr b="0" lang="en-US" sz="1800" spc="-1" strike="noStrike">
              <a:solidFill>
                <a:srgbClr val="000000"/>
              </a:solidFill>
              <a:latin typeface="Calibri"/>
            </a:endParaRPr>
          </a:p>
        </p:txBody>
      </p:sp>
      <p:sp>
        <p:nvSpPr>
          <p:cNvPr id="63" name="TextBox 4"/>
          <p:cNvSpPr/>
          <p:nvPr/>
        </p:nvSpPr>
        <p:spPr>
          <a:xfrm>
            <a:off x="380880" y="4572000"/>
            <a:ext cx="8153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king (Best to Worst :</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 Tomball – No faults, very little maintenance needed for fault repairs, Orso University would last the longest here.</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 Houston – One small fault. Damages are not very severe</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town Central – Several faults. Damages can build up.</a:t>
            </a:r>
            <a:endParaRPr b="0" lang="en-US" sz="18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Bayside – High number of faults. Damage repair costs are estimated to be high.</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town East – Most amount of faults. Damage repairs </a:t>
            </a:r>
            <a:r>
              <a:rPr b="1" lang="en-US" sz="1800" spc="-1" strike="noStrike">
                <a:solidFill>
                  <a:srgbClr val="000000"/>
                </a:solidFill>
                <a:latin typeface="Calibri"/>
              </a:rPr>
              <a:t>will</a:t>
            </a:r>
            <a:r>
              <a:rPr b="0" lang="en-US" sz="1800" spc="-1" strike="noStrike">
                <a:solidFill>
                  <a:srgbClr val="000000"/>
                </a:solidFill>
                <a:latin typeface="Calibri"/>
              </a:rPr>
              <a:t> be very high.</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0:56:21Z</dcterms:created>
  <dc:creator>John</dc:creator>
  <dc:description/>
  <dc:language>en-US</dc:language>
  <cp:lastModifiedBy>John</cp:lastModifiedBy>
  <dcterms:modified xsi:type="dcterms:W3CDTF">2008-09-25T04:27:28Z</dcterms:modified>
  <cp:revision>22</cp:revision>
  <dc:subject/>
  <dc:title>Slide 1</dc:title>
</cp:coreProperties>
</file>