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97E-2F2A-40D3-BBAB-A6D72D0F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A87-F22D-4A74-9A03-8E019DAB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92A-E755-480B-89B6-7B99A617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FA9-AEA1-4E3B-BC97-5C87EB76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222-5524-4A86-AD5F-D65037CC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AC2-F888-4A12-82D3-5E6492DD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FE2-1949-4BD8-AC1C-C9BA48DA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038-7C1F-4B8B-8050-7040E69F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386-E0AC-4B41-B805-235A0BA9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592-F59B-404B-A671-8D7925C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33F-4E89-4666-B87B-8666F6F8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EB9-9774-4A21-97D6-5133A5D2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92B7-EE04-458E-A699-E6E359962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 customs and beliefs of South Asia affect the human and physical geography of th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eople in South Asia use traditional funeral pyres to cremate basically everyone who dies they need more wood so they have to cut down a lot of trees which is causing defore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Instead of using a bunch of wood to cremate people they can use an electric cremator which wont use any wood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uth Asia it is preferred by families to have a boy child instead of a girl child so the family continues having more kids until they get the child they want, which is causing the population to grow rapi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The government could make a law limiting the number of children a family can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ution In the Ganges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uth Asia everyone bathes in the Ganges River everyday, and since there is so many people in South Asia that is a lot of filth going into the river. Also, after they cremate people they dump there ashes into the river causing even more pol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Stop bathing in the Ganges River and put the ashes of the dead people somewhere else besides in the river, or just stop cremating people in the first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447920"/>
          <a:ext cx="393228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393228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2:51:44Z</dcterms:created>
  <dc:creator>cfisd</dc:creator>
  <dc:description/>
  <dc:language>en-US</dc:language>
  <cp:lastModifiedBy>cfisd</cp:lastModifiedBy>
  <dcterms:modified xsi:type="dcterms:W3CDTF">2009-06-01T13:29:09Z</dcterms:modified>
  <cp:revision>2</cp:revision>
  <dc:subject/>
  <dc:title>Slide 1</dc:title>
</cp:coreProperties>
</file>