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672-A87B-498C-8D39-C56BBFDB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EE4E-9104-4112-ACCB-89A015D2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D49A-07E1-4494-93BA-DD526A22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6F48-3A30-4A90-97DE-DD004B54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0A0-8FBA-4CEC-A467-023A2772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852-3AB4-4B52-9306-5C3A782C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9D83-C293-4913-A22C-921D762C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809-DD77-49CE-995F-DB9C2ADA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1D5-E4A9-49E6-97AB-74BA801D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D92F-810F-45A4-BC89-D05C0115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4B3-CF45-41FF-933F-1C9A062C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C249-E359-48A6-B9E3-28B413BE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0D0A-5593-4EEE-AECD-BAFA1AFB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 customs and beliefs of South Asia affect the human and physical geography of the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eople in South Asia use traditional funeral pyres to cremate basically everyone who dies they need more wood so they have to cut down a lot of trees which is causing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Instead of using a bunch of wood to cremate people they can use an electric cremator which wont use any wood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uth Asia it is preferred by families to have a boy child instead of a girl child so the family continues having more kids until they get the child they want, which is causing the population to grow rapi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The government could make a law limiting the number of children a family can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ution In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uth Asia everyone bathes in the Ganges River everyday, and since there is so many people in South Asia that is a lot of filth going into the river. Also, after they cremate people they dump there ashes into the river causing even more pol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Stop bathing in the Ganges River and put the ashes of the dead people somewhere else besides in the river, or just stop cremating people in the first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447920"/>
          <a:ext cx="3932280" cy="29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3932280" cy="29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2:51:44Z</dcterms:created>
  <dc:creator>cfisd</dc:creator>
  <dc:description/>
  <dc:language>en-US</dc:language>
  <cp:lastModifiedBy>cfisd</cp:lastModifiedBy>
  <dcterms:modified xsi:type="dcterms:W3CDTF">2009-06-01T13:29:09Z</dcterms:modified>
  <cp:revision>2</cp:revision>
  <dc:subject/>
  <dc:title>Slide 1</dc:title>
</cp:coreProperties>
</file>