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0145-1318-419A-BCA3-96C8D2BB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0D26-D340-404D-8AB7-C940C44A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7B7-5212-48AF-9F05-13910F27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B283-8DF4-432B-9DA1-7CDF9769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4B1-9749-4738-B036-06DB7B01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A8E-E37D-4D90-8B1C-E3CD02C7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758A-B8C5-4F57-A18C-216433D5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8B0-8DC2-4390-9149-1E090B23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8B1-C5CB-4B7C-8DD2-3B8B6B759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1F3-DD9D-4F52-BB8D-8BE069B7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0F87-EC45-40B4-8D38-2EE7B27B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15C2-DB56-4F39-93FB-8EF7E057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8943-1C90-4783-B717-93526B3E5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the customs and beliefs of South Asia affect the human and physical geography of th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people in South Asia use traditional funeral pyres to cremate basically everyone who dies they need more wood so they have to cut down a lot of trees which is causing defore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Instead of using a bunch of wood to cremate people they can use an electric cremator which wont use any wood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uth Asia it is preferred by families to have a boy child instead of a girl child so the family continues having more kids until they get the child they want, which is causing the population to grow rapi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The government could make a law limiting the number of children a family can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ution In the Ganges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uth Asia everyone bathes in the Ganges River everyday, and since there is so many people in South Asia that is a lot of filth going into the river. Also, after they cremate people they dump there ashes into the river causing even more pol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Stop bathing in the Ganges River and put the ashes of the dead people somewhere else besides in the river, or just stop cremating people in the first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447920"/>
          <a:ext cx="393228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393228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2:51:44Z</dcterms:created>
  <dc:creator>cfisd</dc:creator>
  <dc:description/>
  <dc:language>en-US</dc:language>
  <cp:lastModifiedBy>cfisd</cp:lastModifiedBy>
  <dcterms:modified xsi:type="dcterms:W3CDTF">2009-06-01T13:29:09Z</dcterms:modified>
  <cp:revision>2</cp:revision>
  <dc:subject/>
  <dc:title>Slide 1</dc:title>
</cp:coreProperties>
</file>