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E1B-95BB-4A2F-A151-ABB9F594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5F7-0D21-4D34-B48A-2220984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CA4-15B3-4690-B787-F661CD56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DFB-73BD-41F9-9CD5-CE61E99B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969-AC9F-4E4B-B88C-7DEE9C9E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F5F-B385-4044-BD5B-EF63D8B2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003-E57E-4274-BEDC-55D156EF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5B8-30D5-43AC-A6B4-8693A83B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CA9-C4F3-41D8-895D-44B3BE27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B66-286B-4D19-BD1D-78C95B89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486-FE60-431A-A49A-9D4DB288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CDB-248E-46CB-AE62-7270D6DF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F7C3-2C9A-4E9D-BBC7-05F4AB89B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 customs and beliefs of South Asia affect the human and physical geography of th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eople in South Asia use traditional funeral pyres to cremate basically everyone who dies they need more wood so they have to cut down a lot of trees which is causing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Instead of using a bunch of wood to cremate people they can use an electric cremator which wont use any wood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uth Asia it is preferred by families to have a boy child instead of a girl child so the family continues having more kids until they get the child they want, which is causing the population to grow rapi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The government could make a law limiting the number of children a family can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ution In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Asia everyone bathes in the Ganges River everyday, and since there is so many people in South Asia that is a lot of filth going into the river. Also, after they cremate people they dump there ashes into the river causing even more pol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Stop bathing in the Ganges River and put the ashes of the dead people somewhere else besides in the river, or just stop cremating people in the first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39322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39322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2:51:44Z</dcterms:created>
  <dc:creator>cfisd</dc:creator>
  <dc:description/>
  <dc:language>en-US</dc:language>
  <cp:lastModifiedBy>cfisd</cp:lastModifiedBy>
  <dcterms:modified xsi:type="dcterms:W3CDTF">2009-06-01T13:29:09Z</dcterms:modified>
  <cp:revision>2</cp:revision>
  <dc:subject/>
  <dc:title>Slide 1</dc:title>
</cp:coreProperties>
</file>