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64E2-6712-4F3C-A6BE-3398F3CC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FA05-FC57-4F91-8A73-EB65362E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871-4F50-4E9D-B6E0-3ED3ACFA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7CF2-BD1F-4D72-A05E-C662BDC0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BB77-90DA-43CC-9934-E6E16F3A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53F6-6680-41DE-AAAA-1A6FFB6E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ED2F-4B8E-478B-9AD5-CD8EE090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E2D1-E1CB-48E7-B3EE-E7BB6E53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FD9D-221E-4FEB-9410-191874DA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6B8F-564B-42EB-91A3-A344B6F1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B85C-3C49-4E61-B810-7FA901A4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9369-0648-42A6-88F1-52F36ACD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15E9-0A46-4BBF-8B71-97D41701E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9G_bF4X8vBJgfQApCejzbkF/SIG=12fbirvqh/EXP=1240613783/**http%3A//www.painting-kingdom.com/buddha/small/buddha-066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rds.yahoo.com/_ylt=A9G_bF4X8vBJgfQA6iejzbkF/SIG=124omg24e/EXP=1240613783/**http%3A//www.artfiberglass.com/images/Buddha1F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ravelistic.com/video/show/12041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t/Southeast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ob Fl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23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View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752480"/>
            <a:ext cx="3657600" cy="281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View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1752480"/>
            <a:ext cx="34290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Image of National Geographic Southeast Asia Wall 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4843440"/>
            <a:ext cx="205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ains and large deserts have contributed to the isolation of China along with the Great Wall of Ch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380880"/>
            <a:ext cx="2514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eat Wall of China has contributed to the isolation of China but also helps China's economy due to the amount of touris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51814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aced farming makes useless land good for farming and reduces the amount of soil ero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25146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1066680"/>
            <a:ext cx="236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 has adapted to living in the ring of fire by putting buildings on springs and buildings houses according to strict building co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228600"/>
            <a:ext cx="494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hysical Geograph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Environment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Arable Land- Terraced 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tonic Activity- Building on springs, houses built according to strict co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uld work in a developed area because these are pretty costly modif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2400" y="5181480"/>
            <a:ext cx="47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ravelistic.com/video/show/12041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 (Jap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 has major overpopulation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actually made a law to where a family can only have one kid in an urban area and two in a rural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Population Pyramid for China: 2000"/>
          <p:cNvPicPr/>
          <p:nvPr/>
        </p:nvPicPr>
        <p:blipFill>
          <a:blip r:embed="rId1"/>
          <a:stretch/>
        </p:blipFill>
        <p:spPr>
          <a:xfrm>
            <a:off x="228600" y="3657600"/>
            <a:ext cx="861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22:57:21Z</dcterms:created>
  <dc:creator>Home</dc:creator>
  <dc:description/>
  <dc:language>en-US</dc:language>
  <cp:lastModifiedBy>Home</cp:lastModifiedBy>
  <dcterms:modified xsi:type="dcterms:W3CDTF">2009-04-24T03:45:01Z</dcterms:modified>
  <cp:revision>3</cp:revision>
  <dc:subject/>
  <dc:title>East/Southeast Asia</dc:title>
</cp:coreProperties>
</file>