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11D-5325-4D99-8BD7-EFB18726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B77-2264-43D4-B994-E256CAD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E8D-5241-408A-AEC8-A8937BBE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FF8-A713-4C31-A184-7687153B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9AA-E6C8-4492-AD89-2A4A8C8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7C2-A5D6-4279-B913-3011C9C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193-6F5F-436F-A14F-61AB380D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0A9-15A1-4632-B628-A347D4A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DD9-0A91-4C9D-8594-8D31F7C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C66-2477-427E-A95A-96C12571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F15-AB43-43B1-A52F-2C083A2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911-EF0C-4AA7-87B0-950FECE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D30-855D-4DA8-860F-72DEA9EAD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4X8vBJgfQApCejzbkF/SIG=12fbirvqh/EXP=1240613783/**http%3A//www.painting-kingdom.com/buddha/small/buddha-06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4X8vBJgfQA6iejzbkF/SIG=124omg24e/EXP=1240613783/**http%3A//www.artfiberglass.com/images/Buddha1F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istic.com/video/show/1204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South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3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75248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 of National Geographic Southeast Asia Wal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84344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large deserts have contributed to the isolation of China along with the Great Wall of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808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has contributed to the isolation of China but also helps China's economy due to the amount of tour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181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ced farming makes useless land good for farming and reduces the amount of soil ero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0666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living in the ring of fire by putting buildings on springs and buildings houses according to strict building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49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ysical Ge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-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- Building on springs, houses built according to strict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work in a developed area because these are pretty costly modif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1814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ravelistic.com/video/show/1204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(Jap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has major overpopulation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actually made a law to where a family can only have one kid in an urban area and two in a rura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opulation Pyramid for China: 2000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7:21Z</dcterms:created>
  <dc:creator>Home</dc:creator>
  <dc:description/>
  <dc:language>en-US</dc:language>
  <cp:lastModifiedBy>Home</cp:lastModifiedBy>
  <dcterms:modified xsi:type="dcterms:W3CDTF">2009-04-24T03:45:01Z</dcterms:modified>
  <cp:revision>3</cp:revision>
  <dc:subject/>
  <dc:title>East/Southeast Asia</dc:title>
</cp:coreProperties>
</file>