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35F-5935-4E76-97FC-54540FD4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1AED-0D05-4E38-B627-1CFA5EEC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010-4B8E-47B5-9C42-AF7F1F4D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3FC8-762B-4C16-95FB-73BEDA867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78F0-D53A-4318-8342-2C2FD1EA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7C90-F685-4DBD-B266-12A1B332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F3E9-25FD-4997-8B7E-36340537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31E-D3CD-492C-BD06-FC6E6BC6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92A-F80F-4EA5-97DE-FC76D0B7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1B1-1614-4801-A12B-CA9850F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3DC-54F9-4A21-8A7F-F7678B7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F7A-FAFD-4458-AA84-1681893E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5B37-1F47-4CAC-9DAC-7064EA2A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4X8vBJgfQApCejzbkF/SIG=12fbirvqh/EXP=1240613783/**http%3A//www.painting-kingdom.com/buddha/small/buddha-06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4X8vBJgfQA6iejzbkF/SIG=124omg24e/EXP=1240613783/**http%3A//www.artfiberglass.com/images/Buddha1F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velistic.com/video/show/12041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South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3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175248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 of National Geographic Southeast Asia Wall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84344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large deserts have contributed to the isolation of China along with the Great Wall of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80880"/>
            <a:ext cx="251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has contributed to the isolation of China but also helps China's economy due to the amount of tour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181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ced farming makes useless land good for farming and reduces the amount of soil ero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514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0666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living in the ring of fire by putting buildings on springs and buildings houses according to strict building c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49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ysical Ge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-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- Building on springs, houses built according to strict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work in a developed area because these are pretty costly modif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2400" y="51814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ravelistic.com/video/show/1204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(Jap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has major overpopulation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actually made a law to where a family can only have one kid in an urban area and two in a rural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opulation Pyramid for China: 2000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22:57:21Z</dcterms:created>
  <dc:creator>Home</dc:creator>
  <dc:description/>
  <dc:language>en-US</dc:language>
  <cp:lastModifiedBy>Home</cp:lastModifiedBy>
  <dcterms:modified xsi:type="dcterms:W3CDTF">2009-04-24T03:45:01Z</dcterms:modified>
  <cp:revision>3</cp:revision>
  <dc:subject/>
  <dc:title>East/Southeast Asia</dc:title>
</cp:coreProperties>
</file>