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9AA-FD5E-4857-9598-4335AE54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6B3-98B0-4AAC-9A46-EF8A9AC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0B6-5BD0-4BBA-B3D9-74730CB7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9E9-C563-46E3-957F-F50AADD4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60C-4EEF-45A7-A768-EC3DAFD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53D-3A67-4831-9847-2089664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C9C-E545-449C-AC1F-0FB999F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D9B-4E13-4269-8D98-9B9B2DA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B2E-1358-41C0-BC80-4F29D844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C12-125F-43FF-BA49-8B03D85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460-0342-4974-821D-5E14535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486-D19A-4B17-BBA2-1BB97936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AB69-131E-4379-80B3-57895190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4X8vBJgfQApCejzbkF/SIG=12fbirvqh/EXP=1240613783/**http%3A//www.painting-kingdom.com/buddha/small/buddha-06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4X8vBJgfQA6iejzbkF/SIG=124omg24e/EXP=1240613783/**http%3A//www.artfiberglass.com/images/Buddha1F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istic.com/video/show/1204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South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3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75248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 of National Geographic Southeast Asia Wal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84344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large deserts have contributed to the isolation of China along with the Great Wall of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808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has contributed to the isolation of China but also helps China's economy due to the amount of tour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181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ced farming makes useless land good for farming and reduces the amount of soil ero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0666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living in the ring of fire by putting buildings on springs and buildings houses according to strict building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49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ysical Ge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-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- Building on springs, houses built according to strict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work in a developed area because these are pretty costly modif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1814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ravelistic.com/video/show/1204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(Jap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has major overpopulation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actually made a law to where a family can only have one kid in an urban area and two in a rura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opulation Pyramid for China: 2000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7:21Z</dcterms:created>
  <dc:creator>Home</dc:creator>
  <dc:description/>
  <dc:language>en-US</dc:language>
  <cp:lastModifiedBy>Home</cp:lastModifiedBy>
  <dcterms:modified xsi:type="dcterms:W3CDTF">2009-04-24T03:45:01Z</dcterms:modified>
  <cp:revision>3</cp:revision>
  <dc:subject/>
  <dc:title>East/Southeast Asia</dc:title>
</cp:coreProperties>
</file>