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60C202-84BF-4483-8D01-A6753F8202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35E4F5-21AC-4580-B016-209AA676B4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6E9E0D-0CAE-4C81-8E43-1EFD3A1143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3EF765-E1EA-457E-9FD1-F1E908700E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F42EF0-E725-4312-BC1F-B1DB16BA32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994458-AD10-468A-B6CE-5C649342DE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9271D2-35E7-4F35-88DA-78906BEAE2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180196-57CB-48A4-AF48-B1333E8614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A995C9-0763-4874-A34C-2D3E8D203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44795-CFE2-485C-B374-997120338C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B7649-5540-4B8F-80C9-0928FC392B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C64FB-D9F9-4F42-87F2-C1F4BD6494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B6E8E-77BD-4BD8-83FB-5CB7A766CC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854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so University</a:t>
            </a:r>
            <a:endParaRPr b="0" lang="en-US" sz="4400" spc="-1" strike="noStrike">
              <a:solidFill>
                <a:srgbClr val="000000"/>
              </a:solidFill>
              <a:latin typeface="Arial"/>
            </a:endParaRPr>
          </a:p>
        </p:txBody>
      </p:sp>
      <p:sp>
        <p:nvSpPr>
          <p:cNvPr id="42" name="PlaceHolder 2"/>
          <p:cNvSpPr>
            <a:spLocks noGrp="1"/>
          </p:cNvSpPr>
          <p:nvPr>
            <p:ph type="subTitle"/>
          </p:nvPr>
        </p:nvSpPr>
        <p:spPr>
          <a:xfrm>
            <a:off x="1447920" y="40381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cob Flore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k</a:t>
            </a:r>
            <a:endParaRPr b="0" lang="en-US" sz="4400" spc="-1" strike="noStrike">
              <a:solidFill>
                <a:srgbClr val="000000"/>
              </a:solidFill>
              <a:latin typeface="Arial"/>
            </a:endParaRPr>
          </a:p>
        </p:txBody>
      </p:sp>
      <p:sp>
        <p:nvSpPr>
          <p:cNvPr id="44"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location has the least amount of earthquakes, faults, hurricanes and flood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re any other colleges around this are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percent of the population is looking for a college in this are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 the elevation is effect where this college is buil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high will the repair costs be if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faults nearby?</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ow far away is the college from houses, apartments, etc?</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 – Flood Plains</a:t>
            </a:r>
            <a:endParaRPr b="0" lang="en-US" sz="4400" spc="-1" strike="noStrike">
              <a:solidFill>
                <a:srgbClr val="000000"/>
              </a:solidFill>
              <a:latin typeface="Arial"/>
            </a:endParaRPr>
          </a:p>
        </p:txBody>
      </p:sp>
      <p:sp>
        <p:nvSpPr>
          <p:cNvPr id="46" name="PlaceHolder 2"/>
          <p:cNvSpPr>
            <a:spLocks noGrp="1"/>
          </p:cNvSpPr>
          <p:nvPr>
            <p:ph/>
          </p:nvPr>
        </p:nvSpPr>
        <p:spPr>
          <a:xfrm>
            <a:off x="457200" y="1599840"/>
            <a:ext cx="3657600" cy="42670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the three different categories of floods? Rank them in order from strongest to weak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500 year flood or 0.2% chance floo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100 year flood or 1% chance floo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10 year flood or 10% chance flood</a:t>
            </a:r>
            <a:endParaRPr b="0" lang="en-US" sz="2400" spc="-1" strike="noStrike">
              <a:solidFill>
                <a:srgbClr val="000000"/>
              </a:solidFill>
              <a:latin typeface="Arial"/>
            </a:endParaRPr>
          </a:p>
        </p:txBody>
      </p:sp>
      <p:graphicFrame>
        <p:nvGraphicFramePr>
          <p:cNvPr id="47" name=""/>
          <p:cNvGraphicFramePr/>
          <p:nvPr/>
        </p:nvGraphicFramePr>
        <p:xfrm>
          <a:off x="4343400" y="1219320"/>
          <a:ext cx="4495680" cy="4343040"/>
        </p:xfrm>
        <a:graphic>
          <a:graphicData uri="http://schemas.openxmlformats.org/drawingml/2006/table">
            <a:tbl>
              <a:tblPr/>
              <a:tblGrid>
                <a:gridCol w="1123920"/>
                <a:gridCol w="1123920"/>
                <a:gridCol w="1123920"/>
                <a:gridCol w="1123920"/>
              </a:tblGrid>
              <a:tr h="5900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of floodplai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created explanation of floodplai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ions of floodplain in Harris Coun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lanation of potential flooding</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747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lley Floodplai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near a creek valley. It doesn’t affect many hous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rtheast portion of Harris coun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ouses higher up and further from the creek are safer than ones lower and closer to the creek (which will most likely flood.)</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9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jor River Floodplai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ly one in Houston. It is big and deep.</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ong the San Jacinto Rive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n last for weeks and low houses will most likely flood.</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52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llow Floodplai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ecause this floodplain is shallow, and doesn’t affect many house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of the county, no specific are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ly lasts for a few hours so houses don’t flood too much.</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881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astal Floodplai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ed near the ocea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theast part of Harris coun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houses can be affected by ground subsidence , and lower houses can be affected by .a normal storm surge.</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 – Flood Data</a:t>
            </a:r>
            <a:endParaRPr b="0" lang="en-US" sz="4400" spc="-1" strike="noStrike">
              <a:solidFill>
                <a:srgbClr val="000000"/>
              </a:solidFill>
              <a:latin typeface="Arial"/>
            </a:endParaRPr>
          </a:p>
        </p:txBody>
      </p:sp>
      <p:graphicFrame>
        <p:nvGraphicFramePr>
          <p:cNvPr id="49" name=""/>
          <p:cNvGraphicFramePr/>
          <p:nvPr/>
        </p:nvGraphicFramePr>
        <p:xfrm>
          <a:off x="457200" y="1600200"/>
          <a:ext cx="8229600" cy="4525920"/>
        </p:xfrm>
        <a:graphic>
          <a:graphicData uri="http://schemas.openxmlformats.org/drawingml/2006/table">
            <a:tbl>
              <a:tblPr/>
              <a:tblGrid>
                <a:gridCol w="2057400"/>
                <a:gridCol w="2057400"/>
                <a:gridCol w="2057400"/>
                <a:gridCol w="2057400"/>
              </a:tblGrid>
              <a:tr h="7570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of floodplai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atershe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looding Threat  Level</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09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328 Bay Area Blvd. Housto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of lowest ris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4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688 FM 1960, Huffma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of lowest ris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74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9608 Liberty Ln., Tomball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of lowest ris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09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0 Oats Rd. Housto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loodwa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70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00 Travis St., Housto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of lowest ris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 – Hurricane Data</a:t>
            </a:r>
            <a:endParaRPr b="0" lang="en-US" sz="4400" spc="-1" strike="noStrike">
              <a:solidFill>
                <a:srgbClr val="000000"/>
              </a:solidFill>
              <a:latin typeface="Arial"/>
            </a:endParaRPr>
          </a:p>
        </p:txBody>
      </p:sp>
      <p:graphicFrame>
        <p:nvGraphicFramePr>
          <p:cNvPr id="51" name=""/>
          <p:cNvGraphicFramePr/>
          <p:nvPr/>
        </p:nvGraphicFramePr>
        <p:xfrm>
          <a:off x="5638680" y="914400"/>
          <a:ext cx="2971800" cy="5784840"/>
        </p:xfrm>
        <a:graphic>
          <a:graphicData uri="http://schemas.openxmlformats.org/drawingml/2006/table">
            <a:tbl>
              <a:tblPr/>
              <a:tblGrid>
                <a:gridCol w="742680"/>
                <a:gridCol w="743040"/>
                <a:gridCol w="743040"/>
                <a:gridCol w="743040"/>
              </a:tblGrid>
              <a:tr h="14644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egory of hurricane that would require an evacu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rm surge height that would flood the campu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rricane Threat Level</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93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328 Bay Area Blvd. Houston, TX</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egory 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0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688 FM 1960, Huffma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93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9608 Liberty Ln., Tomball TX</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0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0 Oats Rd. Housto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53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00 Travis St., Housto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2" name=""/>
          <p:cNvSpPr/>
          <p:nvPr/>
        </p:nvSpPr>
        <p:spPr>
          <a:xfrm>
            <a:off x="0" y="838080"/>
            <a:ext cx="563868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What is storm surge? Storm surge is a large dome of water often 50 to 100 miles wide that sweeps across the coastline near where a hurricane makes landfa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Why is storm surge such a huge problem in the Gulf of Mexico instead of places like the Atlantic Ocean? Because there are no structures to be knocked down or broken in the Atlantic oce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Explain the three causes of storm surge. A hurricane creates high and low pressure areas, the low pressure starts to suck the ocean towards the middle of the storm, and the wave and current action associated with the tide all contribute to a storm sur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 What makes storm surge so devastating? Most buildings are not designed to withstand that kind of force so practically anything in the storm surges way gets knocked dow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 – Fault Data</a:t>
            </a:r>
            <a:endParaRPr b="0" lang="en-US" sz="4400" spc="-1" strike="noStrike">
              <a:solidFill>
                <a:srgbClr val="000000"/>
              </a:solidFill>
              <a:latin typeface="Arial"/>
            </a:endParaRPr>
          </a:p>
        </p:txBody>
      </p:sp>
      <p:graphicFrame>
        <p:nvGraphicFramePr>
          <p:cNvPr id="54" name=""/>
          <p:cNvGraphicFramePr/>
          <p:nvPr/>
        </p:nvGraphicFramePr>
        <p:xfrm>
          <a:off x="3809880" y="1600200"/>
          <a:ext cx="4876560" cy="4525920"/>
        </p:xfrm>
        <a:graphic>
          <a:graphicData uri="http://schemas.openxmlformats.org/drawingml/2006/table">
            <a:tbl>
              <a:tblPr/>
              <a:tblGrid>
                <a:gridCol w="1625400"/>
                <a:gridCol w="1627560"/>
                <a:gridCol w="1623600"/>
              </a:tblGrid>
              <a:tr h="9622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ults Nearby (High, Medium, Low)</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ed Repair Cost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218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328 Bay Area Blvd. Houston, TX</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diu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46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688 FM 1960, Huffman TX</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w</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36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9608 Liberty Ln., Tomball TX</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w</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85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0 Oats Rd. Houston, TX</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gh</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0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00 Travis St., Houston, TX</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diu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5" name=""/>
          <p:cNvSpPr/>
          <p:nvPr/>
        </p:nvSpPr>
        <p:spPr>
          <a:xfrm>
            <a:off x="304920" y="2209680"/>
            <a:ext cx="28954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 The images included on the map are examples of which kind of weathe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 How far are Harris County’s faults moving per yea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 How would faults and weathering impact your University? If there are a lot of faults nearby the repair costs will be much high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1T00:34:27Z</dcterms:created>
  <dc:creator>.</dc:creator>
  <dc:description/>
  <dc:language>en-US</dc:language>
  <cp:lastModifiedBy>.</cp:lastModifiedBy>
  <dcterms:modified xsi:type="dcterms:W3CDTF">2008-09-11T02:55:27Z</dcterms:modified>
  <cp:revision>4</cp:revision>
  <dc:subject/>
  <dc:title>Orso University</dc:title>
</cp:coreProperties>
</file>