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A198C5-DE60-43B4-B63D-90E10A185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56199-95A3-401E-85BF-FB8D5AE79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D9D6D-5266-4631-8195-6AAFE452C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A1027-F844-4058-AE9D-F397C80ED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EB052-FD36-4B86-9B9B-B30F7D109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7832B-D267-4121-A234-4DBD943DB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A3F16-3681-4066-83A0-BBBFF83B1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BF1B2-E920-4554-8073-C34A606D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0D13D-6EA0-438F-8337-318E24C09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6FFF-7A13-474A-B6AD-AAA2A22AD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C927-1996-4C95-8D72-A06AF4D33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DE3E9-F5D5-479A-9A5F-9C6B3A22D1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B304-1BA3-4818-9545-629E16B438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ob Flo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location has the least amount of earthquakes, faults, hurricanes and flo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ny other colleges around this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ercent of the population is looking for a college in this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elevation is effect where this college is buil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igh will the repair costs be i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aults nearb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far away is the college from houses, apartments,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lood Plain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36576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three different categories of floods? Rank them in order from strongest to weak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500 year flood or 0.2% chance fl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00 year flood or 1% chance fl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10 year flood or 10% chance flood</a:t>
            </a:r>
            <a:endParaRPr b="0" lang="en-US" sz="2400" spc="-1" strike="noStrike">
              <a:solidFill>
                <a:srgbClr val="000000"/>
              </a:solidFill>
              <a:latin typeface="Arial"/>
            </a:endParaRPr>
          </a:p>
        </p:txBody>
      </p:sp>
      <p:graphicFrame>
        <p:nvGraphicFramePr>
          <p:cNvPr id="47" name=""/>
          <p:cNvGraphicFramePr/>
          <p:nvPr/>
        </p:nvGraphicFramePr>
        <p:xfrm>
          <a:off x="4343400" y="1219320"/>
          <a:ext cx="4495680" cy="4343040"/>
        </p:xfrm>
        <a:graphic>
          <a:graphicData uri="http://schemas.openxmlformats.org/drawingml/2006/table">
            <a:tbl>
              <a:tblPr/>
              <a:tblGrid>
                <a:gridCol w="1123920"/>
                <a:gridCol w="1123920"/>
                <a:gridCol w="1123920"/>
                <a:gridCol w="1123920"/>
              </a:tblGrid>
              <a:tr h="590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747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ear a creek valley. It doesn’t affect many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urther from the creek are safer than ones lower and closer to the creek (which will most likely floo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 in Houston. It is big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last for weeks and low houses will most likely floo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5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this floodplain is shallow, and doesn’t affect many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lasts for a few hours so houses don’t flood too muc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and lower houses can be affected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lood Data</a:t>
            </a:r>
            <a:endParaRPr b="0" lang="en-US" sz="4400" spc="-1" strike="noStrike">
              <a:solidFill>
                <a:srgbClr val="000000"/>
              </a:solidFill>
              <a:latin typeface="Arial"/>
            </a:endParaRPr>
          </a:p>
        </p:txBody>
      </p:sp>
      <p:graphicFrame>
        <p:nvGraphicFramePr>
          <p:cNvPr id="49"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Hurricane Data</a:t>
            </a:r>
            <a:endParaRPr b="0" lang="en-US" sz="4400" spc="-1" strike="noStrike">
              <a:solidFill>
                <a:srgbClr val="000000"/>
              </a:solidFill>
              <a:latin typeface="Arial"/>
            </a:endParaRPr>
          </a:p>
        </p:txBody>
      </p:sp>
      <p:graphicFrame>
        <p:nvGraphicFramePr>
          <p:cNvPr id="51" name=""/>
          <p:cNvGraphicFramePr/>
          <p:nvPr/>
        </p:nvGraphicFramePr>
        <p:xfrm>
          <a:off x="5638680" y="914400"/>
          <a:ext cx="2971800" cy="5784840"/>
        </p:xfrm>
        <a:graphic>
          <a:graphicData uri="http://schemas.openxmlformats.org/drawingml/2006/table">
            <a:tbl>
              <a:tblPr/>
              <a:tblGrid>
                <a:gridCol w="742680"/>
                <a:gridCol w="743040"/>
                <a:gridCol w="743040"/>
                <a:gridCol w="743040"/>
              </a:tblGrid>
              <a:tr h="1464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9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0" y="838080"/>
            <a:ext cx="56386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ault Data</a:t>
            </a:r>
            <a:endParaRPr b="0" lang="en-US" sz="4400" spc="-1" strike="noStrike">
              <a:solidFill>
                <a:srgbClr val="000000"/>
              </a:solidFill>
              <a:latin typeface="Arial"/>
            </a:endParaRPr>
          </a:p>
        </p:txBody>
      </p:sp>
      <p:graphicFrame>
        <p:nvGraphicFramePr>
          <p:cNvPr id="54" name=""/>
          <p:cNvGraphicFramePr/>
          <p:nvPr/>
        </p:nvGraphicFramePr>
        <p:xfrm>
          <a:off x="3809880" y="1600200"/>
          <a:ext cx="4876560" cy="4525920"/>
        </p:xfrm>
        <a:graphic>
          <a:graphicData uri="http://schemas.openxmlformats.org/drawingml/2006/table">
            <a:tbl>
              <a:tblPr/>
              <a:tblGrid>
                <a:gridCol w="1625400"/>
                <a:gridCol w="1627560"/>
                <a:gridCol w="1623600"/>
              </a:tblGrid>
              <a:tr h="962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304920" y="2209680"/>
            <a:ext cx="28954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The images included on the map are examples of which kind of weath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How far are Harris County’s faults moving per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How would faults and weathering impact your University? If there are a lot of faults nearby the repair costs will be much hig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0:34:27Z</dcterms:created>
  <dc:creator>.</dc:creator>
  <dc:description/>
  <dc:language>en-US</dc:language>
  <cp:lastModifiedBy>.</cp:lastModifiedBy>
  <dcterms:modified xsi:type="dcterms:W3CDTF">2008-09-11T02:55:27Z</dcterms:modified>
  <cp:revision>4</cp:revision>
  <dc:subject/>
  <dc:title>Orso University</dc:title>
</cp:coreProperties>
</file>