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465-5ED3-4A26-AF9D-9773492F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66E-523F-41D8-B1B4-9B6A40F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6FC-6D9C-458D-92A5-80874D38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C7A-9997-48AD-9D08-AFBD14ED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61C-6E8B-4946-9DAF-8DC0DF78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AC6-B0D3-4FE1-9FF6-810340E7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C2A-D806-42E0-B927-F90F87D8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092-6FCF-4734-817D-127D6126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B9F-D9C0-4408-9CC0-2EA5B777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7F2-5584-4598-9699-7A12E29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124-1709-4847-81F1-10CFC1B1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C7A-508A-4769-B1C2-6A50313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D3354D-0B91-45F6-91F6-C38958276A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j Al Arab is the only seven-star hotel in the world and without a reservation, you can not even so much take a step ins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room for two night costs $1559 to $189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280" y="11811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ai expanded to every channel with its successful pearl trade when taken over by Britain in 17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1, Britain by then had gave up its control on Dubai and Dubai became the seventh emirate of the United Arab Emi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9720" y="1542960"/>
            <a:ext cx="50482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 Wadi Waterpark and Mall of the Emi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 Wadi Waterpark and the Mall of the Emirates is an example of modernization as proof that Dubai is vastly industriali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5880" y="3886200"/>
            <a:ext cx="332892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 Safari Dubai and Aerial T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s within the Desert Safari Dubai and the helicopters in the aerial tours once did not exist in the now modernizing Dub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413388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3480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So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zation in the Gold Souk is indicated by its intricate designs that machines hel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00" y="2751120"/>
            <a:ext cx="8215200" cy="387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fisd</dc:creator>
  <dc:description/>
  <dc:language>en-US</dc:language>
  <cp:lastModifiedBy>Lauren Delos Reyes</cp:lastModifiedBy>
  <cp:revision>0</cp:revision>
  <dc:subject/>
  <dc:title>Itinerary for Dubai</dc:title>
</cp:coreProperties>
</file>