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3763-A739-4709-A014-3A9A757E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F04-D2B3-48E0-820E-345F3A3D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E68-E4CE-460D-8FCC-A1A04B06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080-924A-466E-9923-8A2FA1B5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CAA-3955-453E-8CC7-618D903F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2DE1-9A4D-4308-8BCD-8F849568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A987-3F64-466C-961A-423DEA8E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E170-012A-44C3-B210-FDAAA994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DAE-3310-4DF5-B6D0-8AA772E5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0E7B-AB47-4A35-9F18-166EFCE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999-0BF2-4431-A249-9AFC26E0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1912-3802-4644-BA62-7368B124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625DB3-67CE-4061-9385-7E27A0B245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inerary for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Lauren R. Delos R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680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j Al A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rj Al Arab is the only seven-star hotel in the world and without a reservation, you can not even so much take a step insi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ngle room for two night costs $1559 to $189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4280" y="11811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bai expanded to every channel with its successful pearl trade when taken over by Britain in 176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1, Britain by then had gave up its control on Dubai and Dubai became the seventh emirate of the United Arab Emi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09720" y="1542960"/>
            <a:ext cx="504828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d Wadi Waterpark and Mall of the Emi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d Wadi Waterpark and the Mall of the Emirates is an example of modernization as proof that Dubai is vastly industrializ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89548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85880" y="3886200"/>
            <a:ext cx="332892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ert Safari Dubai and Aerial T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65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s within the Desert Safari Dubai and the helicopters in the aerial tours once did not exist in the now modernizing Dub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486400" y="4133880"/>
            <a:ext cx="2514600" cy="1809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486400" y="1371600"/>
            <a:ext cx="3348000" cy="25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 So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28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zation in the Gold Souk is indicated by its intricate designs that machines help fash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71600" y="2751120"/>
            <a:ext cx="8215200" cy="387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fisd</dc:creator>
  <dc:description/>
  <dc:language>en-US</dc:language>
  <cp:lastModifiedBy>Lauren Delos Reyes</cp:lastModifiedBy>
  <cp:revision>0</cp:revision>
  <dc:subject/>
  <dc:title>Itinerary for Dubai</dc:title>
</cp:coreProperties>
</file>