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B800-6C7C-4215-A321-030ED0D5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6AB5-09B2-4529-8380-9685D66F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F6B2-9039-4D87-AD87-D4DD2BFF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EEE4-B114-4065-81CF-CB334C565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A306-4736-4B24-A1C5-79063707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7FCA-E955-4ACB-9935-3A03E4C3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A08F-ACD1-4AED-82E8-A1368790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BA3C-3E0C-4D5C-BF45-93311932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D568-E6F1-4BE4-B50C-C8F209AC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C7EB-C1B5-49E3-A7A3-0DC36095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3D9C-BBB0-432E-8695-3A99784D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7D8B-A3C6-4C49-B931-F6EFE783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13A311-1B4D-46C7-978C-9D20CA7B9F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inerary for Du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Lauren R. Delos R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71800" y="152280"/>
            <a:ext cx="3352680" cy="24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j Al Ar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731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rj Al Arab is the only seven-star hotel in the world and without a reservation, you can not even so much take a step insi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ingle room for two night costs $1559 to $189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14280" y="1181160"/>
            <a:ext cx="357192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Du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ai expanded to every channel with its successful pearl trade when taken over by Britain in 176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71, Britain by then had gave up its control on Dubai and Dubai became the seventh emirate of the United Arab Emi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09720" y="1542960"/>
            <a:ext cx="504828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d Wadi Waterpark and Mall of the Emi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731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d Wadi Waterpark and the Mall of the Emirates is an example of modernization as proof that Dubai is vastly industrializ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2895480" cy="2057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85880" y="3886200"/>
            <a:ext cx="3328920" cy="23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ert Safari Dubai and Aerial To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652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rs within the Desert Safari Dubai and the helicopters in the aerial tours once did not exist in the now modernizing Dub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486400" y="4133880"/>
            <a:ext cx="2514600" cy="1809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486400" y="1371600"/>
            <a:ext cx="3348000" cy="25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 So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328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nization in the Gold Souk is indicated by its intricate designs that machines help fash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71600" y="2751120"/>
            <a:ext cx="8215200" cy="387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fisd</dc:creator>
  <dc:description/>
  <dc:language>en-US</dc:language>
  <cp:lastModifiedBy>Lauren Delos Reyes</cp:lastModifiedBy>
  <cp:revision>0</cp:revision>
  <dc:subject/>
  <dc:title>Itinerary for Dubai</dc:title>
</cp:coreProperties>
</file>