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1B7-8A26-4523-B1C6-ADE9FEBF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8B6F-F9AA-4C66-957C-BD710EEB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446-CD89-4011-920C-61659939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E411-4261-430F-953E-BF4A12F2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426B-1815-46C2-8741-A4A20BF7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BAE4-6601-44F6-ADFE-F3A1FC84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BF8-DA14-4773-8BEA-54115C87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C74-9012-49B3-8378-7813974A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0BD1-87E0-4BAB-9989-7E036808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FBB-AF79-43D8-94B5-4F71A48C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892-9295-4F68-B9D4-AF14DBE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9740-8894-4823-93A6-723F4063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EE85ED-4E34-402E-82A1-18A0F0B3489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inerary for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auren R. Delos R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j Al A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j Al Arab is the only seven-star hotel in the world and without a reservation, you can not even so much take a step ins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ngle room for two night costs $1559 to $189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4280" y="11811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ai expanded to every channel with its successful pearl trade when taken over by Britain in 17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1, Britain by then had gave up its control on Dubai and Dubai became the seventh emirate of the United Arab Emi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09720" y="1542960"/>
            <a:ext cx="50482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 Wadi Waterpark and Mall of the Emi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 Wadi Waterpark and the Mall of the Emirates is an example of modernization as proof that Dubai is vastly industriali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5880" y="3886200"/>
            <a:ext cx="332892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 Safari Dubai and Aerial T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s within the Desert Safari Dubai and the helicopters in the aerial tours once did not exist in the now modernizing Dub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86400" y="4133880"/>
            <a:ext cx="251460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34800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So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2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ization in the Gold Souk is indicated by its intricate designs that machines help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600" y="2751120"/>
            <a:ext cx="8215200" cy="387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fisd</dc:creator>
  <dc:description/>
  <dc:language>en-US</dc:language>
  <cp:lastModifiedBy>Lauren Delos Reyes</cp:lastModifiedBy>
  <cp:revision>0</cp:revision>
  <dc:subject/>
  <dc:title>Itinerary for Dubai</dc:title>
</cp:coreProperties>
</file>