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2C06-572F-43A0-B315-F4A379E12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5AA2-7294-444D-86E5-7C6F7F880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B4DA-ADD4-4B06-BD4F-66808B7E4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A1F3-7126-4A33-BB76-42B38F554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40CA-19CA-4799-9647-555DF37F9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7233-9157-40B9-A6AE-98EB22FDA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B925-6837-428C-B38B-1C15A46E6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2281-65DA-48DC-8C69-FC19F9007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EBDE-475E-4324-8AC1-E53E1D87C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8ACA-2F6E-4211-9CFC-92FA44218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CCFA-1E99-4960-9B4C-A9AAC8B24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6E77-7B71-4520-8241-D849440CB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F49D4-6EA9-4EA5-AA60-C3FB897569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inerary for Duba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Lauren R. Delos Re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The_Palms.jpg"/>
          <p:cNvPicPr/>
          <p:nvPr/>
        </p:nvPicPr>
        <p:blipFill>
          <a:blip r:embed="rId1"/>
          <a:stretch/>
        </p:blipFill>
        <p:spPr>
          <a:xfrm>
            <a:off x="2971800" y="152280"/>
            <a:ext cx="3352680" cy="24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rj Al Ara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6T14:00:05Z</dcterms:created>
  <dc:creator>cfisd</dc:creator>
  <dc:description/>
  <dc:language>en-US</dc:language>
  <cp:lastModifiedBy>cfisd</cp:lastModifiedBy>
  <dcterms:modified xsi:type="dcterms:W3CDTF">2009-02-16T14:09:24Z</dcterms:modified>
  <cp:revision>2</cp:revision>
  <dc:subject/>
  <dc:title>Itinerary for Dubai</dc:title>
</cp:coreProperties>
</file>