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A915-4B88-4D1D-BF97-DD25E719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2D0F-E556-4CC9-9A27-8D3AA3A2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3D24-99E1-4A7A-8DDC-B06EF878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EA1E-77A1-4E5D-8D12-4BCF1CAF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2099-332C-41E9-B9BA-F08EF6D5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CF79-6C81-477F-8BC2-AED0415E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A47E-F704-47D5-A31D-04BE0E65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3D4A-702C-4509-8F91-A60BD8CE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2FE4-9FA0-45AE-9419-572D9F8B2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C1D6-F3DB-4909-BA38-D455D723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8C4B-3428-4B41-8606-D798FBCC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938C-ACC7-43BE-BCBB-85A2791E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86D5-A868-4B46-86EE-D4E2D3234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inerary for Du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Lauren R. Delos R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The_Palms.jpg"/>
          <p:cNvPicPr/>
          <p:nvPr/>
        </p:nvPicPr>
        <p:blipFill>
          <a:blip r:embed="rId1"/>
          <a:stretch/>
        </p:blipFill>
        <p:spPr>
          <a:xfrm>
            <a:off x="2971800" y="152280"/>
            <a:ext cx="335268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j Al Ar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4:00:05Z</dcterms:created>
  <dc:creator>cfisd</dc:creator>
  <dc:description/>
  <dc:language>en-US</dc:language>
  <cp:lastModifiedBy>cfisd</cp:lastModifiedBy>
  <dcterms:modified xsi:type="dcterms:W3CDTF">2009-02-16T14:09:24Z</dcterms:modified>
  <cp:revision>2</cp:revision>
  <dc:subject/>
  <dc:title>Itinerary for Dubai</dc:title>
</cp:coreProperties>
</file>