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CCD-811F-494B-B8D6-E39BDD2E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8A3-3B9B-4CC0-898E-BFC7A93B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FDB-8F6F-4406-B5D0-86DB0B5E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4B4-EBAB-471E-B16C-97EBE17E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AC0-A584-467D-885B-26CCAB97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0CA-4278-42E7-B83F-3CD37C9B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8D4-896C-4A6F-B74E-89D2C6CD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568-4F12-456C-8EE2-C3BD581B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6A8-F796-4189-B9DD-F1F1E9B0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43E-8635-4037-AA16-D322D986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823-1C9A-488F-A163-00513850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BD6-2CD8-49FC-8A10-8C24B369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F5BD-415E-4C1B-B0D9-4200FF326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inerary for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auren R. Delos R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The_Palms.jpg"/>
          <p:cNvPicPr/>
          <p:nvPr/>
        </p:nvPicPr>
        <p:blipFill>
          <a:blip r:embed="rId1"/>
          <a:stretch/>
        </p:blipFill>
        <p:spPr>
          <a:xfrm>
            <a:off x="2971800" y="15228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j Al Ar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00:05Z</dcterms:created>
  <dc:creator>cfisd</dc:creator>
  <dc:description/>
  <dc:language>en-US</dc:language>
  <cp:lastModifiedBy>cfisd</cp:lastModifiedBy>
  <dcterms:modified xsi:type="dcterms:W3CDTF">2009-02-16T14:09:24Z</dcterms:modified>
  <cp:revision>2</cp:revision>
  <dc:subject/>
  <dc:title>Itinerary for Dubai</dc:title>
</cp:coreProperties>
</file>