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5BD8-1CC9-4D93-99B0-5E5961F9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5110-E1E8-4604-92FA-3E0F6B57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9AA-5A02-42D0-BFD1-1564F4EE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CBA-6130-464C-879A-B9CF0A3A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96B-F626-4A8E-B3B2-B135C961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55CF-6E6E-4670-B488-BA733261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BE25-C7C5-454C-B081-E4D22F12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3C2E-5FF7-4339-A0CF-196B1CB3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59AB-61B3-40F2-B2B9-7A3346C6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49D0-267E-4B86-84A8-C4C4A01C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66E1-3397-454E-98D5-09D786BB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93E-F2A4-46FA-B685-7D56D839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71C2-0619-4E29-A7D9-1FEE23F80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inerary for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auren R. Delos R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The_Palms.jpg"/>
          <p:cNvPicPr/>
          <p:nvPr/>
        </p:nvPicPr>
        <p:blipFill>
          <a:blip r:embed="rId1"/>
          <a:stretch/>
        </p:blipFill>
        <p:spPr>
          <a:xfrm>
            <a:off x="2971800" y="152280"/>
            <a:ext cx="335268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j Al Ar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4:00:05Z</dcterms:created>
  <dc:creator>cfisd</dc:creator>
  <dc:description/>
  <dc:language>en-US</dc:language>
  <cp:lastModifiedBy>cfisd</cp:lastModifiedBy>
  <dcterms:modified xsi:type="dcterms:W3CDTF">2009-02-16T14:09:24Z</dcterms:modified>
  <cp:revision>2</cp:revision>
  <dc:subject/>
  <dc:title>Itinerary for Dubai</dc:title>
</cp:coreProperties>
</file>