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EF91B-8343-4F81-96EA-AF3E900B4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E427-F1E0-46A1-85D0-3D0E52CA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0C615-0DE1-43E3-9EDA-8853B41F9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6E25B-BBC7-42B4-970D-0ADFA2AEF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EE08E-AC71-40CA-93CE-A2BE555B4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44C7-6150-47DD-A654-2308262E5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9713C-6ADF-495A-BA6C-768AC0920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8A24A-7537-418A-9D35-8B34C0BB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48280-E301-4DB8-9C1B-3A36CB65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4597-745C-438B-BBF2-1228E22C4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1982-2AD4-4CD6-BF44-466BAC25C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C430-DBAC-4F25-B617-43FC20036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6640" y="6886440"/>
            <a:ext cx="3193920" cy="51912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818EF-2D3D-41AC-90B5-CC4147BE72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8ff"/>
            </a:gs>
            <a:gs pos="100000">
              <a:srgbClr val="2323d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Palestinian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Elias Osio</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eb3d"/>
            </a:gs>
            <a:gs pos="100000">
              <a:srgbClr val="00a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Arguments</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555920"/>
            <a:ext cx="9070920" cy="541656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You Israelis build settlements over our land and overwhelm us with your military, so suicide bombings are our only way to get even. We are Martyrs, not terrorists.</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	</a:t>
            </a:r>
            <a:r>
              <a:rPr b="0" lang="en-US" sz="2000" spc="-1" strike="noStrike">
                <a:solidFill>
                  <a:srgbClr val="000000"/>
                </a:solidFill>
                <a:latin typeface="Times New Roman"/>
                <a:ea typeface="DejaVu Sans"/>
              </a:rPr>
              <a:t>	</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After the Six Days War Israelis had three times the land, including the Gaza Strip, Sinai Peninsula, West Bank and approximately one million Arabs under their control. Instead of negotiating you Israelis turned to violence.</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The Six Days War displaced our people. In Qalqilya, about a third of our homes were destroyed and about twelve thousand inhabitants were forced out. 200-250,000 people from the west bank went into Exile. We have been intimidated out of our own homes.</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Israeli settlements are illegal under international law. You are ignoring the authority of the UN over your country.</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 have denied us of our right to travel and our civil rights all together. We are just as human as you ar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50e"/>
            </a:gs>
            <a:gs pos="100000">
              <a:srgbClr val="ff630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Arguments</a:t>
            </a:r>
            <a:endParaRPr b="0" lang="en-US" sz="4400" spc="-1" strike="noStrike">
              <a:solidFill>
                <a:srgbClr val="000000"/>
              </a:solidFill>
              <a:latin typeface="Arial"/>
            </a:endParaRPr>
          </a:p>
        </p:txBody>
      </p:sp>
      <p:sp>
        <p:nvSpPr>
          <p:cNvPr id="46"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Hamas suicide bombings have ruined our lives, families, prosperity, and natural right to live in peace. Nobody deserves to live in fear, having to worry if our children are in danger or if we will be blown away in our sleep.</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Our people have suffered diaspora in 73 AD and throughout history. We have been cheated out of our land before and we will not be cheated again.</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We fought long and hard throughout the Six Days War and shed our blood for this land. We won the war, so what we fought for should be ours. </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We have tried to negotiate with meetings such as the Oslo Peace Process, but they have failed since you refuse to recognize we even exist.</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r Intifadas only cause violence and worsen the situation, not help i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4b1f6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Secret Weapons</a:t>
            </a:r>
            <a:endParaRPr b="0" lang="en-US" sz="4400" spc="-1" strike="noStrike">
              <a:solidFill>
                <a:srgbClr val="000000"/>
              </a:solidFill>
              <a:latin typeface="Arial"/>
            </a:endParaRPr>
          </a:p>
        </p:txBody>
      </p:sp>
      <p:sp>
        <p:nvSpPr>
          <p:cNvPr id="48"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srael has made the Palestinian economy unfixable. Our are living on less than $2 a day. Your blockades have killed our manufacturing and construction industries. How can we develop and reform when you are choking us with your hands of oppress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Because of you we are dependent on aid and handouts. The only trucks that cross our borders are to bring us necessities, instead of exporting the goods that we should be producing. Needless to say, our unemployment rate has skyrocketed to 28.6% percen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Secret Weapons</a:t>
            </a:r>
            <a:endParaRPr b="0" lang="en-US" sz="4400" spc="-1" strike="noStrike">
              <a:solidFill>
                <a:srgbClr val="000000"/>
              </a:solidFill>
              <a:latin typeface="Arial"/>
            </a:endParaRPr>
          </a:p>
        </p:txBody>
      </p:sp>
      <p:sp>
        <p:nvSpPr>
          <p:cNvPr id="50" name="PlaceHolder 2"/>
          <p:cNvSpPr>
            <a:spLocks noGrp="1"/>
          </p:cNvSpPr>
          <p:nvPr>
            <p:ph type="subTitle"/>
          </p:nvPr>
        </p:nvSpPr>
        <p:spPr>
          <a:xfrm>
            <a:off x="685440" y="2057400"/>
            <a:ext cx="9070920" cy="398448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 have inhabited this land since 1250 BC, and we constructed our temple from 961-922 BC, which is almost 2000 years before your people showed up.   </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hen your people weren't happy after we emigrated to British Mandate Palestine, you turned to violence. You were the first one to shed blood, and it has always been that way even to this day. All you can do is destroy and kill, you know nothing about peace and negotiation</a:t>
            </a: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4c"/>
            </a:gs>
            <a:gs pos="100000">
              <a:srgbClr val="ffb51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lutions</a:t>
            </a:r>
            <a:endParaRPr b="0" lang="en-US" sz="4400" spc="-1" strike="noStrike">
              <a:solidFill>
                <a:srgbClr val="000000"/>
              </a:solidFill>
              <a:latin typeface="Arial"/>
            </a:endParaRPr>
          </a:p>
        </p:txBody>
      </p:sp>
      <p:sp>
        <p:nvSpPr>
          <p:cNvPr id="5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Israeli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600" spc="-1" strike="noStrike">
                <a:solidFill>
                  <a:srgbClr val="000000"/>
                </a:solidFill>
                <a:latin typeface="Arial"/>
              </a:rPr>
              <a:t>We feel that the Palestinians are to be retained to their own small settlement in the West Bank, and they can be allowed to do whatever they please as long as they stay away from Israel. They shall be entitled one visit to Jerusalem a year, but if they violate this privilege it will be taken away.</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u="sng">
                <a:solidFill>
                  <a:srgbClr val="000000"/>
                </a:solidFill>
                <a:uFillTx/>
                <a:latin typeface="Arial"/>
              </a:rPr>
              <a:t>Palestinian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We want control over most of our land and Jerusalem. We will also take control of the Jews that inhabit the land, and any Jew that does not cooperate with our government will be shot. They are to be kept in camps and oppressed in the same way they once oppressed our people. Israelis will have no voice in government and will not be provided most of their rights.</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Compromise</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Israel will be split into two independent, sovereign nations. Jerusalem will be under UN control, along with the borders. Travel will be heavily restricted between the two nations, to prevent any terrorist attacks or further conflict. A peace treaty will be signed by each nation's leader.</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nguin User</dc:creator>
  <dc:description/>
  <dc:language>en-US</dc:language>
  <cp:lastModifiedBy>penguin User</cp:lastModifiedBy>
  <cp:revision>0</cp:revision>
  <dc:subject/>
  <dc:title/>
</cp:coreProperties>
</file>