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CC9-6B51-448D-901C-83E06DE2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1F6-E18A-4AE3-B86E-FF009B11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423-4B53-43D8-BD7B-D30AE5AF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6D4-1047-42CB-9A5B-A39EDCD8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911-ADD2-48B7-A0AE-7B6F2AA0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69A-2204-4890-9C40-23BD4D81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A54-CF4A-495F-B7EB-BF74DBA2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17C-C512-4247-B1E6-B4F6575D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203-4A0B-404E-92F6-B8B28427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3E2-CCF5-4BA2-B6F0-3108F1AE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E5B-260E-4128-AC2D-1ED48190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FD8-1945-4A28-8E6E-8A689887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E03D-DBCA-48E7-90BD-F5A4A1B19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rigin.barackobama.com/pdf/IsraelFactSheet.pdf" TargetMode="External"/><Relationship Id="rId2" Type="http://schemas.openxmlformats.org/officeDocument/2006/relationships/hyperlink" Target="http://origin.barackobama.com/pdf/IsraelFactSheet.pdf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ama’s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ink above and critique Obama’s Israel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does he want to 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positive aspect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otential pitfall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it will be successful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 commercial, advertisement, webpage for each side; Israeli and Palesti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roducts must include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best arguments for their position ranked in 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have returned land in exchange for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is run by Israeli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4114800" cy="670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63868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 Occu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occupy most of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military blockaded mos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sraeli Occupation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lestinians can’t drive to work, their economy is collapsed, they are beaten, property is destroy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32040" cy="498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= areas of Palestinian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tif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means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fada = Organized periods of terrorism and fighting by the Palestin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lestinian leadership uses intifadas to call for increased violence against Israe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ism used by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bombings, assassinations, execution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IST – a person who uses extreme violence to reach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lestinian man carries an injured boy to hospital in the central of Gaza Strip "/>
          <p:cNvPicPr/>
          <p:nvPr/>
        </p:nvPicPr>
        <p:blipFill>
          <a:blip r:embed="rId1"/>
          <a:stretch/>
        </p:blipFill>
        <p:spPr>
          <a:xfrm>
            <a:off x="6629400" y="1371600"/>
            <a:ext cx="2165400" cy="32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math of an Israeli bombing in G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See me for the 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group feel about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reasons and events that have caused them to feel this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ree sentences that add to the other person’s perspective art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T-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stinian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i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143000"/>
            <a:ext cx="0" cy="548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04560" y="2286000"/>
            <a:ext cx="8381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lestinian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 is illegally occupying the land of the Palestinia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is continuously build settlements to push out Palestinians and justify their lan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does Israel maintain the occup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es this conflict represent colonization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raeli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s should control all of Israel because it is rightfully theirs based on historical claims dating back to biblic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 must defend itself against Palestinian  violence and atta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Israeli perspective of this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1:02Z</dcterms:created>
  <dc:creator>CFISD</dc:creator>
  <dc:description/>
  <dc:language>en-US</dc:language>
  <cp:lastModifiedBy>CFISD</cp:lastModifiedBy>
  <dcterms:modified xsi:type="dcterms:W3CDTF">2009-02-24T14:03:44Z</dcterms:modified>
  <cp:revision>7</cp:revision>
  <dc:subject/>
  <dc:title>Slide 1</dc:title>
</cp:coreProperties>
</file>