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E19E-F3EA-4DE5-B57C-08DCB9DF3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AFFC-6FE8-4878-9905-3CD6ABA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C9E-1A93-4B78-96E8-BABC4C7E3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5F0-BC96-47D0-AF54-7C2B7E11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19B7-69A7-4E62-9EA4-2AF16C5D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BE89-C724-48FD-84C6-7BF79A11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F863-0372-4551-95A1-02101410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5E5-F2E4-4C91-B181-31EDBCAF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35B2-428F-41C9-9F71-D7F55687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E5FD-C6E5-4901-8D8F-8320B98A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24F7-AB05-46AC-98BB-69922DB2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457-5521-4BF0-B3D7-A27FB75B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8158-BEAA-4F68-9494-EF7DA52A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rigin.barackobama.com/pdf/IsraelFactSheet.pdf" TargetMode="External"/><Relationship Id="rId2" Type="http://schemas.openxmlformats.org/officeDocument/2006/relationships/hyperlink" Target="http://origin.barackobama.com/pdf/IsraelFactSheet.pdf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bama’s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link above and critique Obama’s Israel Pl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does he want to d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are the positive aspect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are the potential pitfalls of his pla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o you think it will be successful? Explain why or why n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 commercial, advertisement, webpage for each side; Israeli and Palesti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products must include the follow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ree best arguments for their position ranked in ord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have returned land in exchange for pe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is run by Israeli milit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0" y="152280"/>
            <a:ext cx="4114800" cy="6705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563868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 Occup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ws occupy most of the count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i military blockaded most of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sraeli Occupation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lestinians can’t drive to work, their economy is collapsed, they are beaten, property is destroy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0600" y="1143000"/>
            <a:ext cx="3632040" cy="498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00600" y="6172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= areas of Palestinian contr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ntifad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means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ifada = Organized periods of terrorism and fighting by the Palestin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lestinian leadership uses intifadas to call for increased violence against Israe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6172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orism used by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cide bombings, assassinations, execution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IST – a person who uses extreme violence to reach a go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alestinian man carries an injured boy to hospital in the central of Gaza Strip "/>
          <p:cNvPicPr/>
          <p:nvPr/>
        </p:nvPicPr>
        <p:blipFill>
          <a:blip r:embed="rId1"/>
          <a:stretch/>
        </p:blipFill>
        <p:spPr>
          <a:xfrm>
            <a:off x="6629400" y="1371600"/>
            <a:ext cx="2165400" cy="3200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629400" y="472428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math of an Israeli bombing in Ga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228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pective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See me for the artic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your group feel about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list of reasons and events that have caused them to feel this w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ree sentences that add to the other person’s perspective artic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this T-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1143000"/>
            <a:ext cx="0" cy="548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04560" y="2286000"/>
            <a:ext cx="8381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lestinian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685800"/>
            <a:ext cx="89154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 is illegally occupying the land of the Palestinian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raelis continuously build settlements to push out Palestinians and justify their land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does Israel maintain the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oes this conflict represent colonization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sraeli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ws should control all of Israel because it is rightfully theirs based on historical claims dating back to biblic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rael must defend itself against Palestinian  violence and attac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Israeli perspective of this incid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4:41:02Z</dcterms:created>
  <dc:creator>CFISD</dc:creator>
  <dc:description/>
  <dc:language>en-US</dc:language>
  <cp:lastModifiedBy>CFISD</cp:lastModifiedBy>
  <dcterms:modified xsi:type="dcterms:W3CDTF">2009-02-24T14:03:44Z</dcterms:modified>
  <cp:revision>7</cp:revision>
  <dc:subject/>
  <dc:title>Slide 1</dc:title>
</cp:coreProperties>
</file>