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3AE-0E24-4D5E-91E5-1F6B64FA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9E6-A013-4EA7-9D4E-1D835830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C2DC-C3AE-42FB-B54D-57A2E226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011-E270-44FB-BFB3-5573719E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431-19B9-4770-A100-DB54E06D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74A9-DF7D-4562-AF73-DF9C9947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93F-6F0E-4A0E-B3A6-D56DB2E6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143-E6FB-4213-A2E5-52CA462B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F9F-13FA-47AB-8FDB-544C34D3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E0B4-8071-4A6D-AE25-3A4CDD64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203-21E1-4F4C-9BC9-28BE8176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841F-F394-4CED-87F4-63417F8C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53A5-CDE2-4C4A-B03E-1139B3FE6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rigin.barackobama.com/pdf/IsraelFactSheet.pdf" TargetMode="External"/><Relationship Id="rId2" Type="http://schemas.openxmlformats.org/officeDocument/2006/relationships/hyperlink" Target="http://origin.barackobama.com/pdf/IsraelFactSheet.pdf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ama’s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link above and critique Obama’s Israel Pl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does he want to d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are the positive aspect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are the potential pitfall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o you think it will be successful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 commercial, advertisement, webpage for each side; Israeli and Palesti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roducts must include the follow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best arguments for their position ranked in or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s have returned land in exchange for pe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is run by Israeli mil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29200" y="152280"/>
            <a:ext cx="4114800" cy="6705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563868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 Occup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s occupy most of the coun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raeli military blockaded most of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sraeli Occupation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lestinians can’t drive to work, their economy is collapsed, they are beaten, property is destroy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32040" cy="498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00600" y="6172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= areas of Palestinian cont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ntifa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means upr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ifada = Organized periods of terrorism and fighting by the Palestin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lestinian leadership uses intifadas to call for increased violence against Israe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orism used by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cide bombings, assassinations, execution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IST – a person who uses extreme violence to reach a go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alestinian man carries an injured boy to hospital in the central of Gaza Strip "/>
          <p:cNvPicPr/>
          <p:nvPr/>
        </p:nvPicPr>
        <p:blipFill>
          <a:blip r:embed="rId1"/>
          <a:stretch/>
        </p:blipFill>
        <p:spPr>
          <a:xfrm>
            <a:off x="6629400" y="1371600"/>
            <a:ext cx="2165400" cy="3200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29400" y="47242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math of an Israeli bombing in Ga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See me for the arti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your group feel about th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list of reasons and events that have caused them to feel this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ree sentences that add to the other person’s perspective artic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this T-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estinian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raeli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1143000"/>
            <a:ext cx="0" cy="5486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04560" y="2286000"/>
            <a:ext cx="8381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lestinian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915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rael is illegally occupying the land of the Palestinia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raelis continuously build settlements to push out Palestinians and justify their land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p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y does Israel maintain the occup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oes this conflict represent colonization? Explain why or why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raeli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ws should control all of Israel because it is rightfully theirs based on historical claims dating back to biblic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rael must defend itself against Palestinian  violence and atta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xplain the Israeli perspective of this incid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41:02Z</dcterms:created>
  <dc:creator>CFISD</dc:creator>
  <dc:description/>
  <dc:language>en-US</dc:language>
  <cp:lastModifiedBy>CFISD</cp:lastModifiedBy>
  <dcterms:modified xsi:type="dcterms:W3CDTF">2009-02-24T14:03:44Z</dcterms:modified>
  <cp:revision>7</cp:revision>
  <dc:subject/>
  <dc:title>Slide 1</dc:title>
</cp:coreProperties>
</file>