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1E3-3E30-44EE-9238-E59C8C00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5C31-4DCD-4C72-BC95-1C8E2E55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821-ED68-4CBA-9D3A-1CDD11DC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FB8-E287-4CD4-9884-C173D5921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0D13-7F86-4384-B170-54519A72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47F-1425-4007-850D-38559870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E6D-9D02-4506-846C-7A180079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4733-198E-4D30-88D0-6913C833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A31-FF5C-4E1E-AEC4-D30A10C2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53F-14B9-40F3-BB18-F541399B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FF40-9CFE-43A5-96AC-CC53979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1346-2EDA-47E2-BADB-0300639A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D06D-5C08-478D-8EC3-297690A02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hyperlink" Target="http://origin.barackobama.com/pdf/IsraelFactSheet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T-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1430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560" y="2286000"/>
            <a:ext cx="8381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 is illegally occupying the land of the Palestin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s continuously build settlements to push out Palestinians and justify their lan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Israel maintain the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es this conflict represent colonization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s should control all of Israel because it is rightfully theirs based on historical claims dating back to biblic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 must defend itself against Palestinian  violence and at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Israeli perspective of this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4T14:03:44Z</dcterms:modified>
  <cp:revision>7</cp:revision>
  <dc:subject/>
  <dc:title>Slide 1</dc:title>
</cp:coreProperties>
</file>