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5C7-F422-4AA0-8478-A27B24A8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08C-7101-4FFE-94FE-0E8CE495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CD9-C6B2-49D9-9194-E6A0115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CB4-6EDD-42C2-B204-503CBCB1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450-D7FC-4C6A-8846-6DCD47D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489-5C89-4B67-B71D-77B13DB5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BDE-9B1B-4C75-BFB7-992D94D0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50A-C2FF-428B-AEA4-EEF065B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9A6-D6B5-45EF-985A-487EA92E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6AD-3402-4E7C-B472-8920DCF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518-8B88-444D-9E5B-FBB4BF2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6EB-D20C-48FB-A9D5-AAAA356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28ED-7326-4A05-A1B5-49A137EB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3T15:50:54Z</dcterms:modified>
  <cp:revision>3</cp:revision>
  <dc:subject/>
  <dc:title>Slide 1</dc:title>
</cp:coreProperties>
</file>