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383-67F6-4557-BC35-4F1E83FB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3744-A516-4FB5-85E4-D140B280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E5B-D283-4D90-927E-7A509980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79A-BC86-4905-AD40-A60DE9A8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B11-C908-4082-9D06-56D23AB0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9AF-2F51-4A1A-8CD8-6F9DA1F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46A0-53D1-41E7-9E61-D609B7A2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C22-B1A1-4847-A9A6-0A5104EE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CF7-7605-4DF9-8D01-C14AA87D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B45-521D-4255-8F6E-53EE0362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D5E-19BC-4E27-B355-099D556A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88A-0FE2-4206-A6DD-7B959F43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AC50-6B32-4318-BAFB-0DB720C6E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3T15:50:54Z</dcterms:modified>
  <cp:revision>3</cp:revision>
  <dc:subject/>
  <dc:title>Slide 1</dc:title>
</cp:coreProperties>
</file>