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8E1B-6395-4E2A-B808-5DADBDBA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AB4-BA76-44AA-9771-5792E81D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D7DB-2274-4C38-B50A-DB1A15649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E224-DD53-4E96-BFAA-E77465D1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04D2-CD92-445C-9BEF-BE68DFF9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69D0-D35A-42AD-BCBC-00ECB8BA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BC9A-39E0-44A0-887D-93EC900E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31EF-200B-4012-8434-9EEC0A6E1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CF2-7E49-40DE-8140-9659EE3A8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490-4F65-4A1A-9E58-9AFBAEEF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D283-1721-4304-923C-3C8274FD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CB6E-A056-4E72-9324-E461516C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8686-0335-4DCD-B768-D6E2FD791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rigin.barackobama.com/pdf/IsraelFactSheet.pdf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 have returned land in exchange for pe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is run by Israeli mil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29200" y="152280"/>
            <a:ext cx="4114800" cy="6705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563868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 Occup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s occupy most of the coun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raeli military blockaded most of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sraeli Occupation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lestinians can’t drive to work, their economy is collapsed, they are beaten, property is destroy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32040" cy="498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00600" y="6172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= areas of Palestinian cont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ntifa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means upr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ifada = Organized periods of terrorism and fighting by the Palestin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lestinian leadership uses intifadas to call for increased violence against Israe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orism used by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cide bombings, assassinations, execution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IST – a person who uses extreme violence to reach a go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alestinian man carries an injured boy to hospital in the central of Gaza Strip "/>
          <p:cNvPicPr/>
          <p:nvPr/>
        </p:nvPicPr>
        <p:blipFill>
          <a:blip r:embed="rId1"/>
          <a:stretch/>
        </p:blipFill>
        <p:spPr>
          <a:xfrm>
            <a:off x="6629400" y="1371600"/>
            <a:ext cx="2165400" cy="3200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29400" y="4724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math of an Israeli bombing in Ga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See me for the 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your group feel about th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list of reasons and events that have caused them to feel this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ree sentences that add to the other person’s perspective arti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ama’s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link above and critique Obama’s Israel Pl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does he want to d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are the positive aspect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are the potential pitfall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o you think it will be successful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 commercial, advertisement, webpage for each side; Israeli and Palesti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roducts must include the follow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best arguments for their position ranked in or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41:02Z</dcterms:created>
  <dc:creator>CFISD</dc:creator>
  <dc:description/>
  <dc:language>en-US</dc:language>
  <cp:lastModifiedBy>CFISD</cp:lastModifiedBy>
  <dcterms:modified xsi:type="dcterms:W3CDTF">2009-02-23T15:50:54Z</dcterms:modified>
  <cp:revision>3</cp:revision>
  <dc:subject/>
  <dc:title>Slide 1</dc:title>
</cp:coreProperties>
</file>