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782A-81E2-45DD-B71A-E336BC59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029D-E07A-4A68-8F75-F97D8C78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A965-CA87-43E0-A18E-8E28B795E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D366-9532-404C-9852-446A48422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0CA-212F-430B-8794-80755540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0DE-82C2-4CCF-91CF-7762AEBB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1C3B-ECEA-4AD7-94DE-B75F7760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AB83-0668-4EA0-95E5-32687053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782-CFE4-4618-A254-E7D9D79B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6D30-5030-47AE-A446-A089EC0A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006A-8215-4429-800A-14FD24FB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A549-3F62-48B7-8F56-779CB17B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35E9-E1E3-4484-9169-BC3F55DFF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nflict Analysis (Debate Preparation) (50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ebate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ssay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bjectiv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nalyze the perspectives and positions of both s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velop solutions to the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as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rguments: Develop five arguments for the Palestinians and five for the Israe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lutions: Propose three feasib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Palestin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ask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istorical perspectives and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vents: Diaspora, Six Days War, 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analysis of current poli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 the resources on th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cluding power points from earlier in the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f you use others you must ci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2:36:23Z</dcterms:created>
  <dc:creator>CFISD</dc:creator>
  <dc:description/>
  <dc:language>en-US</dc:language>
  <cp:lastModifiedBy>CFISD</cp:lastModifiedBy>
  <dcterms:modified xsi:type="dcterms:W3CDTF">2009-02-26T13:30:16Z</dcterms:modified>
  <cp:revision>4</cp:revision>
  <dc:subject/>
  <dc:title>Israeli-Palestinian Project</dc:title>
</cp:coreProperties>
</file>