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A8E-6BFE-46BB-9ABA-09B33EB2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AC4-1A5E-41B6-834C-31ECDDAE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06F-0877-4D06-BA59-1A0B8724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227-281C-4FAE-A32D-0B48260A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7A0-A525-4CD3-BEC7-A545DE91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A02-8FCF-40BE-B5CC-6DF7A948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3FE-2F9C-4A31-9A4E-86EB6EA3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8F7-C4A6-4E26-9AB0-3DDC70E5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742-7A9F-4CAE-890A-E69CA280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C6C-079A-4E78-8C23-4418CB76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87B-FF07-47A2-AFEE-B9746B5E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FEF-E7CE-480F-9295-65A0BC5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6BCA-6589-4780-874C-74A79D0E2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guments: Develop five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2:36:23Z</dcterms:created>
  <dc:creator>CFISD</dc:creator>
  <dc:description/>
  <dc:language>en-US</dc:language>
  <cp:lastModifiedBy>CFISD</cp:lastModifiedBy>
  <dcterms:modified xsi:type="dcterms:W3CDTF">2009-02-26T13:30:16Z</dcterms:modified>
  <cp:revision>4</cp:revision>
  <dc:subject/>
  <dc:title>Israeli-Palestinian Project</dc:title>
</cp:coreProperties>
</file>