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090D-9F20-4CB1-8A5E-953C9781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F4EB-5D78-4C4A-A7D5-D4ECB646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E452-D3EE-440B-8E74-A5A472528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4C8E-615C-4806-895D-568DF9BCD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F004-25B3-4A21-AD14-9F0A8CC0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8D91-6748-4DC6-ACEA-5BFC7774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593C-5643-4216-920B-40EEA98C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6AEE-1F16-43A0-9721-3ECD5A7D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E64B-AB2E-4C41-834A-381A69F3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EFF2-F796-4620-8260-F39AF2CF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9B77-9350-49FB-A739-2EC7F6E3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7472-C4DA-4ED1-859F-377BE89F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0D4D-F35D-4CB5-A195-023501573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raeli-Palestinian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Conflict Analysis (Debate Preparation) (50 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Debate (25 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Essay (25 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Conflict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Objectiv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nalyze the perspectives and positions of both s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velop solutions to the 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as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rguments: Develop five arguments for the Palestinians and five for the Israe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olutions: Propose three feasibl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ne pro-Isr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ne pro-Palestin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ne comprom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Conflict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ask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include historical perspectives and 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vents: Diaspora, Six Days War, U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include analysis of current polic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include Ha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Conflict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Use the resources on the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ncluding power points from earlier in the we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f you use others you must cit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2:36:23Z</dcterms:created>
  <dc:creator>CFISD</dc:creator>
  <dc:description/>
  <dc:language>en-US</dc:language>
  <cp:lastModifiedBy>CFISD</cp:lastModifiedBy>
  <dcterms:modified xsi:type="dcterms:W3CDTF">2009-02-26T13:30:16Z</dcterms:modified>
  <cp:revision>4</cp:revision>
  <dc:subject/>
  <dc:title>Israeli-Palestinian Project</dc:title>
</cp:coreProperties>
</file>