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D2E5-952A-4163-87A8-C7B0EA49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7D05-D4E2-46E5-B914-B58ADB77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755-2BC6-408D-9D6C-099D8B11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0315-38FF-441F-9E03-B423B35F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3A9-EC50-45F9-9113-B849B086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FDC-827E-4B86-A92B-0ED1FCFB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32B6-CDF4-4C3D-9482-573E0B8D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7EE-74FC-407F-AE27-C4176900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F13-423C-4C7D-819F-C366B08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CCF-F992-48C9-8B2A-F19CB25D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BB1-A906-4F07-B29F-C31E83C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468-AEA4-43E7-8CC8-C9E94727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F2EA-BE28-42C2-8EAD-99851269B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1947.s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a partner on your tea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follow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your side’s solution: Tighten 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reduce tens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treat the other sid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handle the religious compon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other countr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ing Muslim countries? The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lution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other side’s solution: Break it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is fai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other countries react to the pl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Muslim nations? The U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ir human rights viol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artitio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19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ummarize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effects of th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pply this information to your solu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44:21Z</dcterms:modified>
  <cp:revision>2</cp:revision>
  <dc:subject/>
  <dc:title>Warm-up Answers </dc:title>
</cp:coreProperties>
</file>