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9880-2A2D-42D2-819A-F1CD350D0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D292-81AA-4255-8E80-FCCE0D53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60BD-BD37-4602-B72A-EA52EF60B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0D03-C015-4968-862B-8C08B6889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0F01-6D19-42E9-8E1B-481F24F5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2C81-1F04-49A6-97D6-7D119696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5185-20EF-4364-B5BD-8151504B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3D65-6A72-4333-85AF-28BEF497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28D7-0952-4DE8-9D69-FC6D4B55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0DFB-C631-4E9C-BDC2-ECD828E3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2197-2240-45B1-A1EF-18BA525F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F5F7-92A6-41D7-AA2D-2832CEEC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EA88-AAB2-4FC5-AE1E-F36BF0D4F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news.bbc.co.uk/2/shared/spl/hi/middle_east/03/v3_ip_timeline/html/1947.s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raeli-Palestinian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Add Secret Weapons to your argu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olutions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tions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a partner on your team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follow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your side’s solution: Tighten it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you reduce tens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you treat the other sid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you handle the religious compon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other countri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ghboring Muslim countries? The 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tions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other side’s solution: Break it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is fail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other countries react to the pla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Muslim nations? The U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ir human rights viol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Parti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ews.bbc.co.uk/2/shared/spl/hi/middle_east/03/v3_ip_timeline/html/1947.s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Summarize the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Explain the effects of the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Apply this information to your solu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3:23:17Z</dcterms:created>
  <dc:creator>CFISD</dc:creator>
  <dc:description/>
  <dc:language>en-US</dc:language>
  <cp:lastModifiedBy>CFISD</cp:lastModifiedBy>
  <dcterms:modified xsi:type="dcterms:W3CDTF">2009-02-27T13:44:21Z</dcterms:modified>
  <cp:revision>2</cp:revision>
  <dc:subject/>
  <dc:title>Warm-up Answers </dc:title>
</cp:coreProperties>
</file>