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C36-21E7-4CDE-9747-182625BD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9BAA-7A00-4DD4-B0C7-9655EBB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358B-C750-444E-8B0D-8FEBACE9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C59-BB61-40FB-B085-996C3D1E7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2405-E18F-462E-AFFB-F14551B5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4EF-52C2-4F88-88ED-3BD42931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42C6-059C-4601-A41C-146369FA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B50-A544-41A0-A432-651001B1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E47-5CBD-4745-80A4-F952E97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CDE-FB76-407C-93D5-1B7B438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2A9-889B-46A5-A879-5B49B545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C4C-0397-467A-B5A9-6DEA4672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34F1-D298-43C7-B5A1-177C0313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1947.s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 on your te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side’s solution: Tighten 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reduce tens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treat the other s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handle the religious compon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count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ing Muslim countries?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other side’s solution: Break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is f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other countries react to the pl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uslim nations? The 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ir human rights vio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arti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19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arize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effects of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pply this information to your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44:21Z</dcterms:modified>
  <cp:revision>2</cp:revision>
  <dc:subject/>
  <dc:title>Warm-up Answers </dc:title>
</cp:coreProperties>
</file>