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8A8-3060-4313-AD64-BB7BF469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9EC-07DB-417F-88CD-59E96B38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429-494F-4139-A5EA-CD4D0519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B28-06F8-4441-A697-9FA47E86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08B-EBF0-4664-A475-D418B468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85A-44CD-4074-96CF-26090115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574-4D53-4BCC-A6B3-B33AFA52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B44-845E-4251-938E-D8700257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AE9-8F30-44CB-9021-7A5F127A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9E1-3A6C-49E4-8438-A06DFA02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756-93CD-4D5E-A132-E5DDB05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6AF-BF23-4A8F-8433-156B7180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731E-F949-4A87-ACF7-FD6263E70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s.bbc.co.uk/2/hi/business/2253328.stm" TargetMode="Externa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bbc.co.uk/2/shared/spl/hi/middle_east/03/v3_ip_timeline/html/history.stm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 Ans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73 AD Diaspora – Scattering of Jews throughout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1917 - British Gain Control of Palestine – Jewish migration to Israel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1967 - Six Days War – Israel gets Sinai Peninsula and mor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dd Secret Weapons to your arg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lution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ret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03884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Econom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business/2253328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l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Describe the de-development of Palestine’s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Israel’s role in the situation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does this graph suggest about the Palestinian econom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f unemployment reaches 6% it is considered a major problem.  Describe the trends in unemployment in Pales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Add two arguments to your arguments s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5973" t="33333" r="18749" b="138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5278" t="27777" r="19445" b="18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ret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219320"/>
            <a:ext cx="4038480" cy="490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ael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shared/spl/hi/middle_east/03/v3_ip_timeline/html/history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the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4920" y="1066320"/>
            <a:ext cx="396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 – answer the questions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o occupied the region first? Expl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o built the first holy site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en do the Muslims arrive in the region? Expla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1917 – How did Britain gain control of Palest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ummarize what happened in 1929-19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Add two arguments to your arguments s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3:17Z</dcterms:created>
  <dc:creator>CFISD</dc:creator>
  <dc:description/>
  <dc:language>en-US</dc:language>
  <cp:lastModifiedBy>CFISD</cp:lastModifiedBy>
  <dcterms:modified xsi:type="dcterms:W3CDTF">2009-02-27T13:30:23Z</dcterms:modified>
  <cp:revision>3</cp:revision>
  <dc:subject/>
  <dc:title>Warm-up Answers </dc:title>
</cp:coreProperties>
</file>