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FB02-675C-4DBD-B45F-075044BF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278-B897-4FC8-B915-1A7299E7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467-FE6F-4D6E-BFCA-63181221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A44-53AE-4856-AE83-7D93B1D0B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F06-C3C6-410D-8972-5456D5CD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475-5D9A-452B-9659-752BD31D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3CAC-2B0E-491D-8559-71E383F7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6EE-356A-4E9B-B6D8-B2412637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8CDB-C36D-4E07-80D0-4ABC8D8C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CE3-F5D0-417D-9B7C-D8CC4963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99C-0961-411D-BAF2-27FF0A3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CE1-1C5D-4BAB-B22A-0E7FE0C2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7B7-2F2D-41BC-AC43-21E4F1735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bbc.co.uk/2/hi/business/2253328.stm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history.stm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Ans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73 AD Diaspora – Scattering of Jews throughout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917 - British Gain Control of Palestine – Jewish migration to Israel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1967 - Six Days War – Israel gets Sinai Peninsula and mor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0388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Econom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business/2253328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escribe the de-development of Palestine’s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Israel’s role in the situation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does this graph suggest about the Palestinian econom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unemployment reaches 6% it is considered a major problem.  Describe the trends in unemployment in Pales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Add two arguments to your arguments s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5973" t="33333" r="18749" b="138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5278" t="27777" r="19445" b="1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0384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history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the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4920" y="1066320"/>
            <a:ext cx="396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 –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occupied the region first? Expl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o built the first holy site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en do the Muslims arrive in the region? Expl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1917 – How did Britain gain control of Palest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ummarize what happened in 1929-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dd two arguments to your arguments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30:23Z</dcterms:modified>
  <cp:revision>3</cp:revision>
  <dc:subject/>
  <dc:title>Warm-up Answers </dc:title>
</cp:coreProperties>
</file>