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CC7-C5A7-46DF-ADB0-D18FE2DE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D55C-1CC7-4105-8D26-99102606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D604-A998-420E-A4E5-FA86E778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DC5-DC4C-4A66-9C61-E6B8DD08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DAB-D8AC-42C4-9754-8AF435CF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3F0-865E-4995-880F-F8AD494E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BED3-CCA7-4141-9D51-C769C968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776-AE23-48E9-9EDB-B3B4E15F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592-4302-47CF-A2DD-3F3CFA5A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840-6434-4DC2-80CC-BECCC611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B6F-D845-4BF4-A9C9-D2415642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AC04-FC8D-44E3-8E7A-E3EEFF86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570A-EBFC-4C85-9F65-F714E54F8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ews.bbc.co.uk/2/hi/business/2253328.stm" TargetMode="External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ews.bbc.co.uk/2/shared/spl/hi/middle_east/03/v3_ip_timeline/html/history.stm" TargetMode="External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m-up Answ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73 AD Diaspora – Scattering of Jews throughout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1917 - British Gain Control of Palestine – Jewish migration to Israel IN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1967 - Six Days War – Israel gets Sinai Peninsula and more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raeli-Palestinian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Add Secret Weapons to your argu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olution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ret 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403884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stinian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estinian Econom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business/2253328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ticl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Describe the de-development of Palestine’s econom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is Israel’s role in the situation? Ex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at does this graph suggest about the Palestinian econom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If unemployment reaches 6% it is considered a major problem.  Describe the trends in unemployment in Palest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Add two arguments to your arguments se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15973" t="33333" r="18749" b="138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15278" t="27777" r="19445" b="185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ret Weap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0" y="1219320"/>
            <a:ext cx="4038480" cy="490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raeli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ical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shared/spl/hi/middle_east/03/v3_ip_timeline/html/history.s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t the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4920" y="1066320"/>
            <a:ext cx="3962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 – answer the questions be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o occupied the region first? Expl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o built the first holy site? Expl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en do the Muslims arrive in the region? Expla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1917 – How did Britain gain control of Palesti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Summarize what happened in 1929-19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Add two arguments to your arguments s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3:23:17Z</dcterms:created>
  <dc:creator>CFISD</dc:creator>
  <dc:description/>
  <dc:language>en-US</dc:language>
  <cp:lastModifiedBy>CFISD</cp:lastModifiedBy>
  <dcterms:modified xsi:type="dcterms:W3CDTF">2009-02-27T13:30:23Z</dcterms:modified>
  <cp:revision>3</cp:revision>
  <dc:subject/>
  <dc:title>Warm-up Answers </dc:title>
</cp:coreProperties>
</file>