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6BF2-C468-4B9D-92C7-70F17413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5CC-DD3F-4544-BC01-6AA1C15A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3DA-6FE7-4C5A-AF80-E82EDD8B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BDF0-36FB-48BB-A363-6CD9D375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795B-49CB-4CEE-8E8B-FE4F2549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9EA-873F-4094-A6FA-155F558E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76D-A446-4839-9FDB-AA458B60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D26-FB30-4311-9910-8F2FBD8C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121-CCAB-417E-86D3-5E9BCAF87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795-738D-4D7D-BA75-D3757E12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3178-AF4C-41DE-8EE4-3A1BEC39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531-1FE9-4F8C-A133-C2CE1152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D2BF-7BA8-4281-8576-B9E816C2B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onflict Analysis (Debate Preparation) (50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bate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ssay (25 poi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Obj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nalyze the perspectives and positions of both si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velop solutions to the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ask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7 Arguments: Develop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guments for the Palestinians and five for the Israe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2 secret weapons arguments for each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olutions: Propose three feasibl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Isr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pro-Palestin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ne comprom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ask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istorical perspectives and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vents: Diaspora, Six Days War, U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analysis of current polic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ust include H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Conflict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 the resources on th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cluding power points from earlier in the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f you use others you must ci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47:33Z</dcterms:created>
  <dc:creator>CFISD</dc:creator>
  <dc:description/>
  <dc:language>en-US</dc:language>
  <cp:lastModifiedBy>CFISD</cp:lastModifiedBy>
  <dcterms:modified xsi:type="dcterms:W3CDTF">2009-02-27T13:47:55Z</dcterms:modified>
  <cp:revision>1</cp:revision>
  <dc:subject/>
  <dc:title>Final Requirements</dc:title>
</cp:coreProperties>
</file>