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8BF-B0E0-45F7-8BF6-DDAEC91B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986-4900-44DD-85AF-28C3F6E7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536-F689-49E6-8B8B-B1A80604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CE7-FF72-42F2-B033-9AFA90B6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60B-7DFC-4406-AF03-0FF95995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E93-335D-4CE5-853C-C6CB34DC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FB1-CAA6-45AD-A037-071638BA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2D6-A95A-4931-B7A7-9139FA8C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341-4F47-42AE-8BBC-E15B21A7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B55-728E-4D75-842E-3D0A0790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F51-1C18-42AA-AB01-6FAFD6D2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937-890A-439F-8006-7FD106A8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84A7-3895-4717-AF3E-034EF5477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flict Analysis (Debate Preparation) (5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bate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ssay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alyze the perspectives and positions of both s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velop solutions to the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ask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7 Arguments: Develop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guments for the Palestinians and five for the Israe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2 secret weapons arguments for each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lutions: Propose three fea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Palesti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ask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istorical perspectives and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vents: Diaspora, Six Days War,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analysis of current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 the resources on th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cluding power points from earlier in the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f you use others you must ci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47:33Z</dcterms:created>
  <dc:creator>CFISD</dc:creator>
  <dc:description/>
  <dc:language>en-US</dc:language>
  <cp:lastModifiedBy>CFISD</cp:lastModifiedBy>
  <dcterms:modified xsi:type="dcterms:W3CDTF">2009-02-27T13:47:55Z</dcterms:modified>
  <cp:revision>1</cp:revision>
  <dc:subject/>
  <dc:title>Final Requirements</dc:title>
</cp:coreProperties>
</file>