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3C58-F635-498A-90EF-F7C5D55CF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AF6F-13BC-4453-AFA6-4922FF1E2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1145-56F4-4A55-9E58-A152078EF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97B7-7AE5-4DD8-8492-5D72846F1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7C3F-0616-4C74-A6E8-8F2523D29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0043-AFA5-4119-BF0E-E6EE8BC8B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1E40-852E-46FD-922A-FBC53FB48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3F84-0079-4721-9E24-04366F3EB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FDD7-0AE7-4EB1-9E3A-ABFD747B5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63BE-E07C-4458-B95A-18A83143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7879-920C-4555-8608-5D5267AF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C506-34E1-46E5-8300-A13BC766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45935-48EF-404E-A18B-6ECF57A492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Conflict Analysis (Debate Preparation) (50 poi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Debate (25 poi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Essay (25 poi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Conflict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Objectiv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nalyze the perspectives and positions of both sid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evelop solutions to the confl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Task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7 Arguments: Develop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guments for the Palestinians and five for the Israe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2 secret weapons arguments for each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olutions: Propose three feasible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One pro-Isra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One pro-Palestin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One comprom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Conflict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Task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ust include historical perspectives and 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vents: Diaspora, Six Days War, U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tio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ust include analysis of current polic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ust include Ha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Conflict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Use the resources on the wi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Including power points from earlier in the we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If you use others you must cite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3:47:33Z</dcterms:created>
  <dc:creator>CFISD</dc:creator>
  <dc:description/>
  <dc:language>en-US</dc:language>
  <cp:lastModifiedBy>CFISD</cp:lastModifiedBy>
  <dcterms:modified xsi:type="dcterms:W3CDTF">2009-02-27T13:47:55Z</dcterms:modified>
  <cp:revision>1</cp:revision>
  <dc:subject/>
  <dc:title>Final Requirements</dc:title>
</cp:coreProperties>
</file>