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871-914D-4280-9F40-CFAD70D4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35E-D213-49F6-A38B-D502E751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9E9-4D55-48EE-AB79-678FEFEA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BF1-18F9-41A3-8AD7-06413708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0B7-313A-4E7B-8887-172CA95B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23B-73FB-4488-A02C-27BCA36B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079-3F51-4782-8A5D-3B96702C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C8E-1049-4F40-991E-F51A1E3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C05-F20A-4933-BCFB-CCECEC4A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2E8-721D-4F88-805B-7A64513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76F-6894-4307-8569-570F055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48B-C2C5-4AAA-977F-447E88B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F6C2-A0F9-4DFA-BD82-D27C01D7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 Arguments: Develo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2 secret weapons arguments for each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47:33Z</dcterms:created>
  <dc:creator>CFISD</dc:creator>
  <dc:description/>
  <dc:language>en-US</dc:language>
  <cp:lastModifiedBy>CFISD</cp:lastModifiedBy>
  <dcterms:modified xsi:type="dcterms:W3CDTF">2009-02-27T13:47:55Z</dcterms:modified>
  <cp:revision>1</cp:revision>
  <dc:subject/>
  <dc:title>Final Requirements</dc:title>
</cp:coreProperties>
</file>