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BA62-BBC3-4DA9-9E96-902C09101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0EFD-9676-420B-A274-EEE7E31B4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855F-2931-406E-9B59-0F3300719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CCD4-875B-420F-943F-61D0594D0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3A01-3F69-4BC8-8849-AEC5FC345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F39E-C9F4-4D2E-A847-B97273CDB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99D9-B7F9-488E-AD84-49C64BCBD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CAA3-FFB9-4BC8-B6DF-BAF632F50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B7D2-45DA-4693-B665-3608823F2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2AF0-AAC0-432D-BF33-007AE1A19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F252-6E19-47A1-B636-3D41DDCAD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D2CA-B7B2-407D-9F27-82B5DCCE5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F365E-8FAA-403A-99DF-D5F3F421C2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Classified" TargetMode="External"/><Relationship Id="rId2" Type="http://schemas.openxmlformats.org/officeDocument/2006/relationships/hyperlink" Target="http://en.wikipedia.org/wiki/Policy" TargetMode="External"/><Relationship Id="rId3" Type="http://schemas.openxmlformats.org/officeDocument/2006/relationships/hyperlink" Target="http://en.wikipedia.org/wiki/United_Kingdom_of_Great_Britain_and_Ireland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raeli-Palestinian Confli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m Kippur War (October), 197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ypt takes back the Sinai Peninsula, Syria regains portions of the Golan Heights but many water supplies are still controlled by Israe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’s figh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71629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rael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J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GAIN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lestinia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Muslims (practice Islam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lestinians = Ara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lestine = a stateless n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Israeli Flag"/>
          <p:cNvPicPr/>
          <p:nvPr/>
        </p:nvPicPr>
        <p:blipFill>
          <a:blip r:embed="rId1"/>
          <a:srcRect l="0" t="11028" r="0" b="0"/>
          <a:stretch/>
        </p:blipFill>
        <p:spPr>
          <a:xfrm>
            <a:off x="4724280" y="1371600"/>
            <a:ext cx="2400480" cy="18464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 rot="2486400">
            <a:off x="6629040" y="4267080"/>
            <a:ext cx="19540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they are figh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D, both want Isra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rusalem = EXTREMELY holy city, the birthplace of religion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of land = $$$$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419720" y="0"/>
            <a:ext cx="4276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Diaspora – Scattering of Jews after AD 73, Romans take over Palestin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Charting the reach of the Roman Empire in Jesus' time"/>
          <p:cNvPicPr/>
          <p:nvPr/>
        </p:nvPicPr>
        <p:blipFill>
          <a:blip r:embed="rId1"/>
          <a:stretch/>
        </p:blipFill>
        <p:spPr>
          <a:xfrm>
            <a:off x="0" y="1327320"/>
            <a:ext cx="9144000" cy="53085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 flipV="1">
            <a:off x="6248520" y="5105160"/>
            <a:ext cx="152388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5562360" y="5028840"/>
            <a:ext cx="533160" cy="762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4876920" y="5943600"/>
            <a:ext cx="121896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3276360" y="4191120"/>
            <a:ext cx="2819160" cy="1676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1600200" y="4343040"/>
            <a:ext cx="4495680" cy="1523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 – Control of Isra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Ottoman Empire (Islamic) rules the region– 1520-19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Ottomans were a Muslim empire the originated in Turkey.  During their time in power, the Muslim population in Israel greatly increase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Balfour Declaration, 19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763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lfour Declaration of 191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ated 2 November 1917) was a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lassifi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mal statement of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oli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the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Britis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overnment stating that the British government "view with favour the establishment in Palestine of a national home for the Jewish people" with the understanding tha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"nothing shall be done which may prejudice the civil and religious rights of existing non-Jewish communities in Palestine, or the rights and political status enjoyed by Jews in any other country."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ITAIN SAYS ITS OK FOR THE JEWS TO SET UP COMMUNITIES IN PALESTIN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DS TO A MAJOR INCREASE OF JEWISH IMMIGRATION AND THE BEGINNING OF THE ESTABLISHMENT OF ISRAEL AS A JEWISH STA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 Arab-Israeli War, 194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rael calls it the War of Indepen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lestinians call it the Catastrop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nited Nations partitions (divides) Israel into two separate countries.  One for the Jews and one for the Palestinian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one is happ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ritain leaves the region and the Palestinians with the help of other Arab Nations nearby immediately attack Israel to drive them out of Israe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118120" y="0"/>
            <a:ext cx="374976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04920" y="533520"/>
            <a:ext cx="4343400" cy="58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UN Partition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This map shows how the United Nations partitioned Palestine/Israel into two different countri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The city of Jerusalem was taken over by the United N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Jordan, Syria, Egypt, and Palestine immediately attacked Israel after this was set up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 The Six Days W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36576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Using money and military supplies purchased from the US, the Israelis defeat Jordan, Syrian, Palestinian, and Egyptian for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sraelis gai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 Sinai Peninsu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Golan He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ez Canal (on Sinai Peninsula) is a major chokepoint = $$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lan Heights = valuable WATER supp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809880" y="1933560"/>
            <a:ext cx="5334120" cy="44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1T13:08:40Z</dcterms:created>
  <dc:creator>CFISD</dc:creator>
  <dc:description/>
  <dc:language>en-US</dc:language>
  <cp:lastModifiedBy>cfisd</cp:lastModifiedBy>
  <dcterms:modified xsi:type="dcterms:W3CDTF">2009-02-18T17:26:41Z</dcterms:modified>
  <cp:revision>24</cp:revision>
  <dc:subject/>
  <dc:title>Israeli-Palestinian Conflict</dc:title>
</cp:coreProperties>
</file>