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E716-B102-4B32-B4AD-BE16755A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D5D-ACF3-43FC-91D6-80F61193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9E7-E316-42D6-979C-7D4F0AEC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8C8-3C55-420C-B7CA-7FEEBE75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8015-CBEF-4B1C-B2BA-380F1E2E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A73-EBFE-477A-A4D6-B13D9039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A3EB-A666-4729-8F8B-C6CAD8F7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3D92-4472-4D4D-AF6F-5B09E0DA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787-1B76-4E87-A875-02791661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A9A-EF01-408C-8F35-1140CF8D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7C6C-C54C-44C0-BDCE-87EBAE75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8C89-A4C5-4663-855C-0495F17E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F570-8F3C-4600-B560-A7980CF64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Classified" TargetMode="External"/><Relationship Id="rId2" Type="http://schemas.openxmlformats.org/officeDocument/2006/relationships/hyperlink" Target="http://en.wikipedia.org/wiki/Policy" TargetMode="External"/><Relationship Id="rId3" Type="http://schemas.openxmlformats.org/officeDocument/2006/relationships/hyperlink" Target="http://en.wikipedia.org/wiki/United_Kingdom_of_Great_Britain_and_Ireland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m Kippur War (October), 1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ypt takes back the Sinai Peninsula, Syria regains portions of the Golan Heights but many water supplies are still controlled by Isra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’s fig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162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rae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J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AI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lestinia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uslims (practice Isla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= Ar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e = a stateless 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Israeli Flag"/>
          <p:cNvPicPr/>
          <p:nvPr/>
        </p:nvPicPr>
        <p:blipFill>
          <a:blip r:embed="rId1"/>
          <a:srcRect l="0" t="11028" r="0" b="0"/>
          <a:stretch/>
        </p:blipFill>
        <p:spPr>
          <a:xfrm>
            <a:off x="4724280" y="1371600"/>
            <a:ext cx="2400480" cy="1846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486400">
            <a:off x="6629040" y="4267080"/>
            <a:ext cx="1954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they are figh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, both want Isra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rusalem = EXTREMELY holy city, the birthplace of religion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of land = $$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27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Diaspora – Scattering of Jews after AD 73, Romans take over Palesti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Charting the reach of the Roman Empire in Jesus' time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6248520" y="5105160"/>
            <a:ext cx="15238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5028840"/>
            <a:ext cx="5331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876920" y="5943600"/>
            <a:ext cx="121896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276360" y="4191120"/>
            <a:ext cx="281916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1600200" y="4343040"/>
            <a:ext cx="4495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– Control of Isra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Ottoman Empire (Islamic) rules the region– 1520-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Ottomans were a Muslim empire the originated in Turkey.  During their time in power, the Muslim population in Israel greatly increase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Balfour Declaration, 19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four Declaration of 19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ted 2 November 1917) w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ass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mal statement of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oli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ritis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overnment stating that the British government "view with favour the establishment in Palestine of a national home for the Jewish people" with the understanding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"nothing shall be done which may prejudice the civil and religious rights of existing non-Jewish communities in Palestine, or the rights and political status enjoyed by Jews in any other country.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AIN SAYS ITS OK FOR THE JEWS TO SET UP COMMUNITIES IN PALESTIN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MAJOR INCREASE OF JEWISH IMMIGRATION AND THE BEGINNING OF THE ESTABLISHMENT OF ISRAEL AS A JEWISH ST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ab-Israeli War, 19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rael calls it the War of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estinians call it the Catastrop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ted Nations partitions (divides) Israel into two separate countries.  One for the Jews and one for the Palestini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ne is happ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tain leaves the region and the Palestinians with the help of other Arab Nations nearby immediately attack Israel to drive them out of Isra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118120" y="0"/>
            <a:ext cx="374976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4920" y="533520"/>
            <a:ext cx="434340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N Partition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is map shows how the United Nations partitioned Palestine/Israel into two different countr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city of Jerusalem was taken over by the Unit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Jordan, Syria, Egypt, and Palestine immediately attacked Israel after this was set u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The Six Days W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3657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Using money and military supplies purchased from the US, the Israelis defeat Jordan, Syrian, Palestinian, and Egyptian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sraelis ga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Sinai Penins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Golan H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ez Canal (on Sinai Peninsula) is a major chokepoint = $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lan Heights = valuable WATER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809880" y="1933560"/>
            <a:ext cx="53341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08:40Z</dcterms:created>
  <dc:creator>CFISD</dc:creator>
  <dc:description/>
  <dc:language>en-US</dc:language>
  <cp:lastModifiedBy>cfisd</cp:lastModifiedBy>
  <dcterms:modified xsi:type="dcterms:W3CDTF">2009-02-18T17:26:41Z</dcterms:modified>
  <cp:revision>24</cp:revision>
  <dc:subject/>
  <dc:title>Israeli-Palestinian Conflict</dc:title>
</cp:coreProperties>
</file>