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64E-3508-4680-AE83-BEE46A2E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129-3CA3-4C41-8933-4BFE5433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DD4-2AC6-4AB5-995B-00D7A08A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90B-211F-4756-864E-1B99708D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05C-4937-4DA8-B38D-0CEE7AE9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CA5-73E0-4AFD-84A6-BE2F91D4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DAA-EDEC-411C-AB54-90BEFA2B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850-E9A9-4C1E-AE0D-27D46061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94E-92B7-4468-B81D-E94F312A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4E2-DBD0-4393-B741-DAC2BA70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12E-BA53-40D1-B276-0DE15BB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84D-1B74-49CF-963B-70AE7B8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C270-8CE1-4AB1-9265-7F7D3221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lassified" TargetMode="External"/><Relationship Id="rId2" Type="http://schemas.openxmlformats.org/officeDocument/2006/relationships/hyperlink" Target="http://en.wikipedia.org/wiki/Policy" TargetMode="External"/><Relationship Id="rId3" Type="http://schemas.openxmlformats.org/officeDocument/2006/relationships/hyperlink" Target="http://en.wikipedia.org/wiki/United_Kingdom_of_Great_Britain_and_Ireland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m Kippur War (October), 19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 takes back the Sinai Peninsula, Syria regains portions of the Golan Heights but many water supplies are still controlled by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f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rae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estin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uslims (practice Isla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= A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e = a stateless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sraeli Flag"/>
          <p:cNvPicPr/>
          <p:nvPr/>
        </p:nvPicPr>
        <p:blipFill>
          <a:blip r:embed="rId1"/>
          <a:srcRect l="0" t="11028" r="0" b="0"/>
          <a:stretch/>
        </p:blipFill>
        <p:spPr>
          <a:xfrm>
            <a:off x="4724280" y="1371600"/>
            <a:ext cx="2400480" cy="184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486400">
            <a:off x="6629040" y="4267080"/>
            <a:ext cx="195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they are fig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, both want Isra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 = EXTREMELY holy city, the birthplace of relig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land = $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2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iaspora – Scattering of Jews after AD 73, Romans take over Palest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harting the reach of the Roman Empire in Jesus' time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248520" y="5105160"/>
            <a:ext cx="15238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5028840"/>
            <a:ext cx="5331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76920" y="5943600"/>
            <a:ext cx="12189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76360" y="4191120"/>
            <a:ext cx="281916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600200" y="4343040"/>
            <a:ext cx="4495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– Control of Isr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ttoman Empire (Islamic) rules the region– 1520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ttomans were a Muslim empire the originated in Turkey.  During their time in power, the Muslim population in Israel greatly increas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Balfour Declaration, 19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four Declaration of 19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ted 2 November 1917) w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l statement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li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rit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stating that the British government "view with favour the establishment in Palestine of a national home for the Jewish people" with the understanding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thing shall be done which may prejudice the civil and religious rights of existing non-Jewish communities in Palestine, or the rights and political status enjoyed by Jews in any other country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SAYS ITS OK FOR THE JEWS TO SET UP COMMUNITIES IN PALEST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MAJOR INCREASE OF JEWISH IMMIGRATION AND THE BEGINNING OF THE ESTABLISHMENT OF ISRAEL AS A JEWISH ST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ab-Israeli War,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 calls it the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call it the Cata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Nations partitions (divides) Israel into two separate countries.  One for the Jews and one for the Palestini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is happ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tain leaves the region and the Palestinians with the help of other Arab Nations nearby immediately attack Israel to drive them out of Isr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18120" y="0"/>
            <a:ext cx="3749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33520"/>
            <a:ext cx="43434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 Parti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s map shows how the United Nations partitioned Palestine/Israel into two different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city of Jerusalem was taken over by the Unit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Jordan, Syria, Egypt, and Palestine immediately attacked Israel after this was set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 Six Days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657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ing money and military supplies purchased from the US, the Israelis defeat Jordan, Syrian, Palestinian, and Egyptian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raelis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Sinai Penins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Golan H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z Canal (on Sinai Peninsula) is a major chokepoint = 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an Heights = valuable WAT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1933560"/>
            <a:ext cx="53341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08:40Z</dcterms:created>
  <dc:creator>CFISD</dc:creator>
  <dc:description/>
  <dc:language>en-US</dc:language>
  <cp:lastModifiedBy>cfisd</cp:lastModifiedBy>
  <dcterms:modified xsi:type="dcterms:W3CDTF">2009-02-18T17:26:41Z</dcterms:modified>
  <cp:revision>24</cp:revision>
  <dc:subject/>
  <dc:title>Israeli-Palestinian Conflict</dc:title>
</cp:coreProperties>
</file>