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E118-9EFB-4F9C-B15E-48BB2DCF1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F6E7-1C4C-47F2-BF69-50CB8428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97F6-7560-4D57-B587-E995E1612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CB60-5C05-4AFA-AE93-DAFF97D89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6A39-2468-4E0D-AA79-5B01523E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B0A1-807A-4C93-B7D3-C783E21C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79E3-1CDA-4FA8-9B70-9DB68338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4CD7-EAA3-4F7E-BE25-4A301651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77BB-5B18-4F5C-AF22-1BF46922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4C76-774F-4E11-B1B0-4D0181FE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EE51-BA75-449D-9B0B-3CA640DA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1F8E-8293-4B46-BDDB-DD9D8470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FD89-35AC-47BC-99B7-1BDAFAAEC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origin.barackobama.com/pdf/IsraelFactSheet.pdf" TargetMode="External"/><Relationship Id="rId2" Type="http://schemas.openxmlformats.org/officeDocument/2006/relationships/hyperlink" Target="http://origin.barackobama.com/pdf/IsraelFactSheet.pdf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raeli-Palestinian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bama’s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he link above and critique Obama’s Israel Pl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hat does he want to d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at are the positive aspects of his pla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hat are the potential pitfalls of his pla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Do you think it will be successful? Explain why or why n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 commercial, advertisement, webpage for each side; Israeli and Palestin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products must include the follow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ead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i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ree best arguments for their position ranked in ord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ws have returned land in exchange for pea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y is run by Israeli milit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29200" y="152280"/>
            <a:ext cx="4114800" cy="6705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120" y="5638680"/>
            <a:ext cx="91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raeli Occup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ws occupy most of the count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raeli military blockaded most of the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sraeli Occupation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lestinians can’t drive to work, their economy is collapsed, they are beaten, property is destroy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00600" y="1143000"/>
            <a:ext cx="3632040" cy="4983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00600" y="6172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n = areas of Palestinian contr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228600"/>
            <a:ext cx="91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Intifad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means upri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ifada = Organized periods of terrorism and fighting by the Palestini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lestinian leadership uses intifadas to call for increased violence against Israel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228600"/>
            <a:ext cx="91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6172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orism used by both 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cide bombings, assassinations, executions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EMIST – a person who uses extreme violence to reach a go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Palestinian man carries an injured boy to hospital in the central of Gaza Strip "/>
          <p:cNvPicPr/>
          <p:nvPr/>
        </p:nvPicPr>
        <p:blipFill>
          <a:blip r:embed="rId1"/>
          <a:stretch/>
        </p:blipFill>
        <p:spPr>
          <a:xfrm>
            <a:off x="6629400" y="1371600"/>
            <a:ext cx="2165400" cy="3200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629400" y="472428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math of an Israeli bombing in Ga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228600"/>
            <a:ext cx="91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pective Read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s: See me for the artic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your group feel about the conflic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list of reasons and events that have caused them to feel this w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ree sentences that add to the other person’s perspective artic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e this T-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lestinian Per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raeli Per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1143000"/>
            <a:ext cx="0" cy="5486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04560" y="2286000"/>
            <a:ext cx="8381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lestinian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685800"/>
            <a:ext cx="89154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rael is illegally occupying the land of the Palestinian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raelis continuously build settlements to push out Palestinians and justify their land cl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ip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y does Israel maintain the occup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Does this conflict represent colonization? Explain why or why no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raeli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ws should control all of Israel because it is rightfully theirs based on historical claims dating back to biblical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rael must defend itself against Palestinian  violence and attac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p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Explain the Israeli perspective of this incid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4:41:02Z</dcterms:created>
  <dc:creator>CFISD</dc:creator>
  <dc:description/>
  <dc:language>en-US</dc:language>
  <cp:lastModifiedBy>CFISD</cp:lastModifiedBy>
  <dcterms:modified xsi:type="dcterms:W3CDTF">2009-02-24T14:03:44Z</dcterms:modified>
  <cp:revision>7</cp:revision>
  <dc:subject/>
  <dc:title>Slide 1</dc:title>
</cp:coreProperties>
</file>