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844-DA39-4A54-B002-AC23074B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C8C-5AEB-44C5-A77B-3C4E00A4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CF3-D539-42B3-B1E3-521BAD8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7B7-1891-41DB-9F9E-3D09C8D7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FDA-6C92-4991-A34F-7348536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6CD-2226-496A-B0E7-4142095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B2A-488D-47E8-82C6-E2D8A105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7ED-1AFD-469F-9455-3AFEF6E5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46A-4885-4AF1-A630-57088464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7F0-6338-4CBE-B863-388EF00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486-128B-4106-B515-6A61962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0A5-5CFA-4946-A80A-C97BB637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BB5-1D62-42A7-9842-071C2A761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hyperlink" Target="http://origin.barackobama.com/pdf/IsraelFactSheet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T-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560" y="228600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 is illegally occupying the land of the Palestin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s continuously build settlements to push out Palestinians and justify their lan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Israel maintain the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es this conflict represent colonization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s should control all of Israel because it is rightfully theirs based on historical claims dating back to biblic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 must defend itself against Palestinian  violence and at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Israeli perspective of this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4T14:03:44Z</dcterms:modified>
  <cp:revision>7</cp:revision>
  <dc:subject/>
  <dc:title>Slide 1</dc:title>
</cp:coreProperties>
</file>