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731-16D7-459D-AC4D-A687BE3A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752-D055-436E-86CD-84378009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AA6-7171-4C44-84F1-95D5552B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05F-53B9-4ED1-92D0-A2F4B40E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799-B4F3-4489-9BC1-2715E572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CBA-285E-4ACD-AC1A-C44D0765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C12-EDC9-40C6-824B-2F422495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5A6-C63E-4D5F-861A-F55411E6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159-A29C-4EE0-90A7-6FBA1790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534-AA7D-4D11-BACD-CB3F78B5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A23-0F44-472E-9A4E-097C9840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D49-0563-47B7-B2EA-ADD86C6C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ECDD-110F-4226-8680-26973FC4B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rigin.barackobama.com/pdf/IsraelFactSheet.pd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have returned land in exchange for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is run by Israeli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4114800" cy="670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63868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 Occu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occupy most of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military blockaded mos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sraeli Occupation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lestinians can’t drive to work, their economy is collapsed, they are beaten, property is destroy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32040" cy="498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= areas of Palestinian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tif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means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fada = Organized periods of terrorism and fighting by the Palestin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lestinian leadership uses intifadas to call for increased violence against Israe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ism used by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bombings, assassinations, execution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IST – a person who uses extreme violence to reach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lestinian man carries an injured boy to hospital in the central of Gaza Strip "/>
          <p:cNvPicPr/>
          <p:nvPr/>
        </p:nvPicPr>
        <p:blipFill>
          <a:blip r:embed="rId1"/>
          <a:stretch/>
        </p:blipFill>
        <p:spPr>
          <a:xfrm>
            <a:off x="6629400" y="1371600"/>
            <a:ext cx="2165400" cy="32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math of an Israeli bombing in G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See me for the 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group feel about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reasons and events that have caused them to feel this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ree sentences that add to the other person’s perspective art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ama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ink above and critique Obama’s Israel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does he want to 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positive aspect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otential pitfall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it will be successful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 commercial, advertisement, webpage for each side; Israeli and Palesti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roducts must include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best arguments for their position ranked in 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1:02Z</dcterms:created>
  <dc:creator>CFISD</dc:creator>
  <dc:description/>
  <dc:language>en-US</dc:language>
  <cp:lastModifiedBy>CFISD</cp:lastModifiedBy>
  <dcterms:modified xsi:type="dcterms:W3CDTF">2009-02-23T15:50:54Z</dcterms:modified>
  <cp:revision>3</cp:revision>
  <dc:subject/>
  <dc:title>Slide 1</dc:title>
</cp:coreProperties>
</file>