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DDF-57BA-4306-8964-374FCEDE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A9F-AF0C-4667-8122-8AB217FB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E332-6AD0-48AB-8BA9-2F4660880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086F-C123-4767-B0F3-11EFA74B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D1F8-ABA4-4415-AD3B-3846B3DD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4425-E985-48D8-8FA5-B0E7CD09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3659-52B7-4916-9480-A60B5A0D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AD2A-A807-420A-A94F-24C8FF52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BEF8-1BBE-4F83-ADD3-73773F22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683A-EE30-4A26-976B-5953C022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32E9-65C9-4459-84F7-282E852D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0F0-5328-4EF5-82EC-9FFA08D0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1A83-7675-44FE-8809-ABCFC7400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rigin.barackobama.com/pdf/IsraelFactSheet.pdf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s have returned land in exchange for pe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 is run by Israeli milit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29200" y="152280"/>
            <a:ext cx="4114800" cy="6705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563868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 Occup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ws occupy most of the coun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raeli military blockaded most of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sraeli Occupation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lestinians can’t drive to work, their economy is collapsed, they are beaten, property is destroy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632040" cy="498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00600" y="6172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= areas of Palestinian contr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ntifa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means upr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ifada = Organized periods of terrorism and fighting by the Palestini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lestinian leadership uses intifadas to call for increased violence against Israe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orism used by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cide bombings, assassinations, execution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IST – a person who uses extreme violence to reach a go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Palestinian man carries an injured boy to hospital in the central of Gaza Strip "/>
          <p:cNvPicPr/>
          <p:nvPr/>
        </p:nvPicPr>
        <p:blipFill>
          <a:blip r:embed="rId1"/>
          <a:stretch/>
        </p:blipFill>
        <p:spPr>
          <a:xfrm>
            <a:off x="6629400" y="1371600"/>
            <a:ext cx="2165400" cy="3200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29400" y="47242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math of an Israeli bombing in Ga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pective Read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: See me for the artic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your group feel about the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list of reasons and events that have caused them to feel this 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ree sentences that add to the other person’s perspective artic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bama’s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link above and critique Obama’s Israel Pl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does he want to d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are the positive aspects of his pl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are the potential pitfalls of his pl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o you think it will be successful? Explain why or why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 commercial, advertisement, webpage for each side; Israeli and Palesti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products must include the follow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best arguments for their position ranked in or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4:41:02Z</dcterms:created>
  <dc:creator>CFISD</dc:creator>
  <dc:description/>
  <dc:language>en-US</dc:language>
  <cp:lastModifiedBy>CFISD</cp:lastModifiedBy>
  <dcterms:modified xsi:type="dcterms:W3CDTF">2009-02-23T15:50:54Z</dcterms:modified>
  <cp:revision>3</cp:revision>
  <dc:subject/>
  <dc:title>Slide 1</dc:title>
</cp:coreProperties>
</file>