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50A8A-B62F-4E98-9E59-F5E74131E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C182C-05BB-4564-B561-2F1DAFF96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2DCCF-1D52-48EC-8421-284AE74FF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7C72B-AC29-4CF4-B543-B82612450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FDE58-54A6-4669-9406-4EE6C2843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9F004-4C9A-404B-A729-51BD782B4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1B260-9D9A-49E2-A81D-738042A35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8472F-4063-4AB7-8933-89E083974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AD945-246C-47AF-9CFB-52871FF5A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F56F6-5071-436D-AB35-609F74B70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79E17-BA94-4899-A472-09D541245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D411B-77C2-429D-BA0A-0140A88D5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D791F-8A50-4B12-9315-3A06D2B039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raeli-Palestinian Pro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du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Conflict Analysis (Debate Preparation) (50 point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Debate (25 point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Essay (25 point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. Conflict Analys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 Objective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Analyze the perspectives and positions of both sid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Develop solutions to the confli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. Task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Arguments: Develop five arguments for the Palestinians and five for the Israel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Solutions: Propose three feasible sol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One pro-Isra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One pro-Palestini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One comprom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. Conflict Analy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Task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Must include historical perspectives and 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Events: Diaspora, Six Days War, U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tion P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Must include analysis of current polici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Must include Ham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. Conflict Analy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.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Use the resources on the wik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Including power points from earlier in the wee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If you use others you must cite th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6T12:36:23Z</dcterms:created>
  <dc:creator>CFISD</dc:creator>
  <dc:description/>
  <dc:language>en-US</dc:language>
  <cp:lastModifiedBy>CFISD</cp:lastModifiedBy>
  <dcterms:modified xsi:type="dcterms:W3CDTF">2009-02-26T13:30:16Z</dcterms:modified>
  <cp:revision>4</cp:revision>
  <dc:subject/>
  <dc:title>Israeli-Palestinian Project</dc:title>
</cp:coreProperties>
</file>