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F085-13BF-43FF-B470-67045E232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C6F8-5BC5-408B-99F3-32F6FC68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E5BE-5704-412A-A963-02D0D4056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24C7-12F6-4807-AA88-FCC7B1CBF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8BEC-A367-4B90-9CA2-B065D9F5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700E-43E9-426D-9196-921F0959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C5CA-7DC3-41B1-803D-DBE9BDE6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C9C2-E4D8-4A3F-A03A-FE9DCA5A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9B1C-28E7-491A-8452-A437A483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AF97-4ACD-4A74-9AF6-BB35B29F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3FD2-13B8-42DF-AA1E-FEC6A88D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6F56-FD26-4B9A-B264-1FC401F4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31AC-3577-4311-B02B-515986E6E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news.bbc.co.uk/2/hi/business/2253328.stm" TargetMode="External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news.bbc.co.uk/2/shared/spl/hi/middle_east/03/v3_ip_timeline/html/history.stm" TargetMode="External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 Answ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73 AD Diaspora – Scattering of Jews throughout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1917 - British Gain Control of Palestine – Jewish migration to Israel 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1967 - Six Days War – Israel gets Sinai Peninsula and more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raeli-Palestinian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Add Secret Weapons to your argu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Solutions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ret Weap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403884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lestinian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lestinian Economic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news.bbc.co.uk/2/hi/business/2253328.s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icl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Describe the de-development of Palestine’s econom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What is Israel’s role in the situation? Expl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What does this graph suggest about the Palestinian econom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2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If unemployment reaches 6% it is considered a major problem.  Describe the trends in unemployment in Palest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Add two arguments to your arguments sec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15973" t="33333" r="18749" b="1389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15278" t="27777" r="19445" b="185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ret Weap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0" y="1219320"/>
            <a:ext cx="4038480" cy="490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raeli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ic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news.bbc.co.uk/2/shared/spl/hi/middle_east/03/v3_ip_timeline/html/history.s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at the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4920" y="1066320"/>
            <a:ext cx="3962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 – answer the questions bel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Who occupied the region first? Explai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Who built the first holy site? Expl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When do the Muslims arrive in the region? Explai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1917 – How did Britain gain control of Palesti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Summarize what happened in 1929-19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Add two arguments to your arguments se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3:23:17Z</dcterms:created>
  <dc:creator>CFISD</dc:creator>
  <dc:description/>
  <dc:language>en-US</dc:language>
  <cp:lastModifiedBy>CFISD</cp:lastModifiedBy>
  <dcterms:modified xsi:type="dcterms:W3CDTF">2009-02-27T13:30:23Z</dcterms:modified>
  <cp:revision>3</cp:revision>
  <dc:subject/>
  <dc:title>Warm-up Answers </dc:title>
</cp:coreProperties>
</file>