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BFF-E23A-450B-98A4-64844471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4D6-F7DF-4DA8-80B8-0E51A9A8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FE1-B823-4CB2-9BF2-81AEACFF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E24-9E14-441D-8F29-BADA222B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042-277D-46DF-8166-2A116FD2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922-B901-4D9D-B4FB-D4700F07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97F-F852-4C1A-A11E-17169FF9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740-ABF0-4BB6-853B-06C02C51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DDB-73BD-484B-9810-B7CE052D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33B-2897-4E98-84D5-C61D80FE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A02-E932-4494-8C2F-47DC1197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7168-E7E1-4A20-A324-748A0C07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C32E-7107-43E2-A13A-643ED766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bbc.co.uk/2/hi/business/2253328.stm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history.stm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 Ans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73 AD Diaspora – Scattering of Jews throughout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1917 - British Gain Control of Palestine – Jewish migration to Israel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1967 - Six Days War – Israel gets Sinai Peninsula and mor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03884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Econom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business/2253328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escribe the de-development of Palestine’s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Israel’s role in the situation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does this graph suggest about the Palestinian econom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unemployment reaches 6% it is considered a major problem.  Describe the trends in unemployment in Pales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Add two arguments to your arguments s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5973" t="33333" r="18749" b="138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5278" t="27777" r="19445" b="18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219320"/>
            <a:ext cx="4038480" cy="490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ael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history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the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4920" y="1066320"/>
            <a:ext cx="396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 –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o occupied the region first? Expl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o built the first holy site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en do the Muslims arrive in the region? Expla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1917 – How did Britain gain control of Palest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ummarize what happened in 1929-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Add two arguments to your arguments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30:23Z</dcterms:modified>
  <cp:revision>3</cp:revision>
  <dc:subject/>
  <dc:title>Warm-up Answers </dc:title>
</cp:coreProperties>
</file>