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32E-C28D-4590-8BB8-9F4E15B5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E0E-E540-4077-B556-9FE9046B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59F-E2C4-4B29-A1D0-FCD980B5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D8C-C592-41F0-8DD8-444F6BF0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054-7F53-489B-A811-58055A1C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27E-DAD4-46A8-8140-D7EE6C5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EA8-1449-4B4E-8BCD-975DEC41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A61-5C78-431F-A2FC-D34C9383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34C-763D-442E-9171-13502CBA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3E0-EA4B-4F9A-A00B-EA4249D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87D-B060-489D-B40E-DFA0B9D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2BB-BCAB-4DBB-BC9A-13C5712A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6996-2BA1-4D6F-A7D5-AE244BF3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 Arguments: Develo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2 secret weapons arguments for each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47:33Z</dcterms:created>
  <dc:creator>CFISD</dc:creator>
  <dc:description/>
  <dc:language>en-US</dc:language>
  <cp:lastModifiedBy>CFISD</cp:lastModifiedBy>
  <dcterms:modified xsi:type="dcterms:W3CDTF">2009-02-27T13:47:55Z</dcterms:modified>
  <cp:revision>1</cp:revision>
  <dc:subject/>
  <dc:title>Final Requirements</dc:title>
</cp:coreProperties>
</file>