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AF3B-6EA2-4EFC-B182-CD83B045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350C-2B75-4BE3-8F53-FC5C0D1F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283-0405-4B5A-92AB-C7483668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7C2E-5908-4AF2-92E6-1FA902F8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B34-FDC4-41BE-AAE4-9B85CC6D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A02-27DB-44D5-8552-EADA045F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DA7-22C4-4059-860C-9802C15A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714-8B32-4BA0-9A4A-13258FD8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5635-52F4-4AD8-88B1-A477924E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FC2-FF74-494F-9C74-9F56E1B6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671-83FC-49AF-AD87-83555D16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2B0-5C25-4FCE-AF22-37BA1D0F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D013-A681-4863-8C0F-2CE9ABD38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nflict Analysis (Debate Preparation) (50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bate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ssay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bj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nalyze the perspectives and positions of both s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velop solutions to the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ask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7 Arguments: Develop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guments for the Palestinians and five for the Israe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2 secret weapons arguments for each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lutions: Propose three feasib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Palestin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ask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istorical perspectives and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vents: Diaspora, Six Days War, 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analysis of current poli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 the resources on th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cluding power points from earlier in the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f you use others you must ci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47:33Z</dcterms:created>
  <dc:creator>CFISD</dc:creator>
  <dc:description/>
  <dc:language>en-US</dc:language>
  <cp:lastModifiedBy>CFISD</cp:lastModifiedBy>
  <dcterms:modified xsi:type="dcterms:W3CDTF">2009-02-27T13:47:55Z</dcterms:modified>
  <cp:revision>1</cp:revision>
  <dc:subject/>
  <dc:title>Final Requirements</dc:title>
</cp:coreProperties>
</file>