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23DD-0535-43E3-8DCD-93A6719C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643D-399A-43C1-8AC6-0BAD937C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BECB-DFFE-4C88-B697-8E8F0F1E8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A48F-9856-4926-974B-203046FC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B9BA-9422-443F-AF8F-FCC22423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853C-5D4D-4075-8A5F-385D916C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9522-525F-456D-B7B3-FAAD0C33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BD88-0B5D-4C36-92C3-5ABF5EFD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9EFC-7F65-4C6E-BA29-38E634FD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0A91-46E4-4134-B863-D9A7AE56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618A-5AF1-454D-8B75-358E837A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4A9C-8D9D-4F76-BFEB-7A3645F4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AC57-C4C4-48A3-BE28-A34AFDC5D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lassified" TargetMode="External"/><Relationship Id="rId2" Type="http://schemas.openxmlformats.org/officeDocument/2006/relationships/hyperlink" Target="http://en.wikipedia.org/wiki/Policy" TargetMode="External"/><Relationship Id="rId3" Type="http://schemas.openxmlformats.org/officeDocument/2006/relationships/hyperlink" Target="http://en.wikipedia.org/wiki/United_Kingdom_of_Great_Britain_and_Ireland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m Kippur War (October), 19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ypt takes back the Sinai Peninsula, Syria regains portions of the Golan Heights but many water supplies are still controlled by Isra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’s figh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162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rael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J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AI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lestinia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uslims (practice Isla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estinians = Ar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estine = a stateless 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Israeli Flag"/>
          <p:cNvPicPr/>
          <p:nvPr/>
        </p:nvPicPr>
        <p:blipFill>
          <a:blip r:embed="rId1"/>
          <a:srcRect l="0" t="11028" r="0" b="0"/>
          <a:stretch/>
        </p:blipFill>
        <p:spPr>
          <a:xfrm>
            <a:off x="4724280" y="1371600"/>
            <a:ext cx="2400480" cy="1846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2486400">
            <a:off x="6629040" y="4267080"/>
            <a:ext cx="1954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they are figh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, both want Isra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rusalem = EXTREMELY holy city, the birthplace of religion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of land = $$$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27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Diaspora – Scattering of Jews after AD 73, Romans take over Palesti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Charting the reach of the Roman Empire in Jesus' time"/>
          <p:cNvPicPr/>
          <p:nvPr/>
        </p:nvPicPr>
        <p:blipFill>
          <a:blip r:embed="rId1"/>
          <a:stretch/>
        </p:blipFill>
        <p:spPr>
          <a:xfrm>
            <a:off x="0" y="1327320"/>
            <a:ext cx="9144000" cy="5308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>
            <a:off x="6248520" y="5105160"/>
            <a:ext cx="15238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5562360" y="5028840"/>
            <a:ext cx="53316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876920" y="5943600"/>
            <a:ext cx="12189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276360" y="4191120"/>
            <a:ext cx="2819160" cy="1676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1600200" y="4343040"/>
            <a:ext cx="449568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– Control of Isra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Ottoman Empire (Islamic) rules the region– 1520-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Ottomans were a Muslim empire the originated in Turkey.  During their time in power, the Muslim population in Israel greatly increas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Balfour Declaration, 19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four Declaration of 191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ated 2 November 1917) was 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mal statement of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oli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riti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vernment stating that the British government "view with favour the establishment in Palestine of a national home for the Jewish people" with the understanding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nothing shall be done which may prejudice the civil and religious rights of existing non-Jewish communities in Palestine, or the rights and political status enjoyed by Jews in any other country.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AIN SAYS ITS OK FOR THE JEWS TO SET UP COMMUNITIES IN PALESTIN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A MAJOR INCREASE OF JEWISH IMMIGRATION AND THE BEGINNING OF THE ESTABLISHMENT OF ISRAEL AS A JEWISH ST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Arab-Israeli War, 19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rael calls it the War of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estinians call it the Catastrop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ed Nations partitions (divides) Israel into two separate countries.  One for the Jews and one for the Palestinia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ne is happ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itain leaves the region and the Palestinians with the help of other Arab Nations nearby immediately attack Israel to drive them out of Isra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118120" y="0"/>
            <a:ext cx="37497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533520"/>
            <a:ext cx="434340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 Parti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is map shows how the United Nations partitioned Palestine/Israel into two different count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 city of Jerusalem was taken over by the United N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Jordan, Syria, Egypt, and Palestine immediately attacked Israel after this was set 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The Six Days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3657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sing money and military supplies purchased from the US, the Israelis defeat Jordan, Syrian, Palestinian, and Egyptian fo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sraelis ga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Sinai Penins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Golan He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ez Canal (on Sinai Peninsula) is a major chokepoint = 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lan Heights = valuable WATER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9880" y="1933560"/>
            <a:ext cx="533412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3:08:40Z</dcterms:created>
  <dc:creator>CFISD</dc:creator>
  <dc:description/>
  <dc:language>en-US</dc:language>
  <cp:lastModifiedBy>cfisd</cp:lastModifiedBy>
  <dcterms:modified xsi:type="dcterms:W3CDTF">2009-02-18T17:26:41Z</dcterms:modified>
  <cp:revision>24</cp:revision>
  <dc:subject/>
  <dc:title>Israeli-Palestinian Conflict</dc:title>
</cp:coreProperties>
</file>