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39C-496D-4748-8D18-F761B741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6F5-6519-4830-AC8D-1FA1CE62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CB9-E3F1-4BC4-A0BB-24CB7814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CFD-CAAA-45B5-944A-BC34658A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E27-57D9-4BAF-B348-FF42739C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099-5CAC-4A58-839C-C732C213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E67-64C5-42B7-814E-B2A83D70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C35-E8AF-4BD1-9842-2091AE26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4261-70A3-47D0-941D-FFE14DE3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86E-BB45-4B56-B600-659E87BB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1DF-28F7-462B-A89F-1E6515C7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8F3-649C-4BF3-8CC2-0463ECF6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009C-C044-4E89-8616-F9BBF60B8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851200" y="20289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6095880" y="1828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3048120" y="19051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638680" y="1981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MPj04275910000[1]"/>
          <p:cNvPicPr/>
          <p:nvPr/>
        </p:nvPicPr>
        <p:blipFill>
          <a:blip r:embed="rId1"/>
          <a:stretch/>
        </p:blipFill>
        <p:spPr>
          <a:xfrm>
            <a:off x="0" y="2743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MPj04331190000[1]"/>
          <p:cNvPicPr/>
          <p:nvPr/>
        </p:nvPicPr>
        <p:blipFill>
          <a:blip r:embed="rId2"/>
          <a:stretch/>
        </p:blipFill>
        <p:spPr>
          <a:xfrm>
            <a:off x="3124080" y="2895480"/>
            <a:ext cx="2819520" cy="1871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MPj04008010000[1]"/>
          <p:cNvPicPr/>
          <p:nvPr/>
        </p:nvPicPr>
        <p:blipFill>
          <a:blip r:embed="rId3"/>
          <a:stretch/>
        </p:blipFill>
        <p:spPr>
          <a:xfrm>
            <a:off x="6248520" y="2895480"/>
            <a:ext cx="2895480" cy="231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629400" y="304920"/>
            <a:ext cx="2209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CHART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conomic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K OF INDUSTRIALIZATION AND URBAN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til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due to a lack of cultural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TRA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other civilizations eventually left East Asian countrie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Asia beca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MODER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other civilization due to its iso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0"/>
            <a:ext cx="30481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WORDS IN BOLD IN THE CORRECT SPOT ON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ial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QUE RELIG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 Buddhism, Shinto, and Confucianism developed in East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TERN PHILOSOPH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differently than Western Philoso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NOCENTR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w as these cultures developed distinct cultural and ethnic differences due to the iso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NESE CUL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the main cultural influence in East and Southeast Asian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litical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the isolation, there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WARS BETWEEN E. ASIAN EMPIR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, isolationism in China led t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K MILIT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countries were abl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NIZE SE ASIAN COUNTR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851200" y="20289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095880" y="1828800"/>
            <a:ext cx="0" cy="464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3048120" y="19051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638680" y="1981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0" y="2971800"/>
            <a:ext cx="28954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industrialization and urb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rade with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modern than other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048120" y="2895480"/>
            <a:ext cx="3276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religion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n Philosophy develo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ocentrism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culture spread though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172200" y="2895480"/>
            <a:ext cx="3429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ocal wars between East Asian emp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to a weakened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d European countries to colonize parts of East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03848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uman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each human cause and your solution to address each ca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6920" y="837720"/>
            <a:ext cx="4038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ysical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tch examples of technology that would address each physical ca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038480"/>
            <a:ext cx="838224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economic, political, and social effect that you think is the worst. (one for e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your reason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E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h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house you have 2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wo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car out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3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family to the left of th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latio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policy of national isolation by not trading with or being involved with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ocentr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attitude that one’s own group or culture is superior to other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4572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152280"/>
            <a:ext cx="26668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BOTH TERMS AND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0"/>
            <a:ext cx="86868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regions did China have contact wi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effect did this have on Chin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ne, no diffusion occur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No diffusion = they developed their own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990720" y="28954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4648320" y="1981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7242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91440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MPj04341700000[1]"/>
          <p:cNvPicPr/>
          <p:nvPr/>
        </p:nvPicPr>
        <p:blipFill>
          <a:blip r:embed="rId1"/>
          <a:stretch/>
        </p:blipFill>
        <p:spPr>
          <a:xfrm>
            <a:off x="304920" y="2819520"/>
            <a:ext cx="4190760" cy="27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MPj04332070000[1]"/>
          <p:cNvPicPr/>
          <p:nvPr/>
        </p:nvPicPr>
        <p:blipFill>
          <a:blip r:embed="rId2"/>
          <a:stretch/>
        </p:blipFill>
        <p:spPr>
          <a:xfrm>
            <a:off x="4952880" y="2743200"/>
            <a:ext cx="3581640" cy="2895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629400" y="304920"/>
            <a:ext cx="2209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CHART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ysical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nt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uch as the Himalayas and the Tian Shan)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er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ike the Gobi Desert) acted as natural barriers to the spread of culture in and out of East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other major civilizations allowed East Asia to develop in isolation and create a unique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0"/>
            <a:ext cx="30481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WORDS IN BOLD IN THE CORRECT SPOT ON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uman C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at Wall of Ch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built to keep invaders out of East Asia but it also kept out trade and cultural diff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nocentr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the attitude that one’s own group is superior to other groups prevented the adoption of outside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lation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 political philosophy in many East Asian governments that prevented trade and travel with civilizations outside of East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0"/>
            <a:ext cx="39625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WORDS IN BOLD IN THE CORRECT SPOT ON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990720" y="28954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4648320" y="1981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7242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91440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04920" y="2895480"/>
            <a:ext cx="41907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to other Civil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800600" y="2819520"/>
            <a:ext cx="4191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 Wall of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ocent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6:09:25Z</dcterms:created>
  <dc:creator>Jeffrey Burnthorn</dc:creator>
  <dc:description/>
  <dc:language>en-US</dc:language>
  <cp:lastModifiedBy>CFISD</cp:lastModifiedBy>
  <dcterms:modified xsi:type="dcterms:W3CDTF">2009-04-14T16:30:44Z</dcterms:modified>
  <cp:revision>12</cp:revision>
  <dc:subject/>
  <dc:title>Causes and Effects of E/SE Asia’s Isolation</dc:title>
</cp:coreProperties>
</file>