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56F-C21A-4B5A-A505-A131FF6E7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D9D-DA5B-4C1E-B155-9E4CD91E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9329-7ED3-49D1-B447-E541451E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464-1EFC-4A80-82BA-C86C8B771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CA2-2B1C-4601-AC85-894FC2BD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D8AD-EF28-443E-9E35-1E759A0B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88AA-E8D8-43B3-915D-F7E14286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259B-D6E8-4623-9150-7445091A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118-4F49-4330-AF7D-7D6DAF8C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C89A-3D3C-4078-9F92-FF667DB0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35FA-C201-45BA-8012-D07035DA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1EB-399E-42EB-B7D8-41D89558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6A12-B370-4A65-8B6C-0EF604E86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6095880" y="182880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3048120" y="1905120"/>
            <a:ext cx="0" cy="3504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MPj04275910000[1]"/>
          <p:cNvPicPr/>
          <p:nvPr/>
        </p:nvPicPr>
        <p:blipFill>
          <a:blip r:embed="rId1"/>
          <a:stretch/>
        </p:blipFill>
        <p:spPr>
          <a:xfrm>
            <a:off x="0" y="2743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MPj04331190000[1]"/>
          <p:cNvPicPr/>
          <p:nvPr/>
        </p:nvPicPr>
        <p:blipFill>
          <a:blip r:embed="rId2"/>
          <a:stretch/>
        </p:blipFill>
        <p:spPr>
          <a:xfrm>
            <a:off x="3124080" y="2895480"/>
            <a:ext cx="2819520" cy="1871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MPj04008010000[1]"/>
          <p:cNvPicPr/>
          <p:nvPr/>
        </p:nvPicPr>
        <p:blipFill>
          <a:blip r:embed="rId3"/>
          <a:stretch/>
        </p:blipFill>
        <p:spPr>
          <a:xfrm>
            <a:off x="6248520" y="2895480"/>
            <a:ext cx="2895480" cy="2316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100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the 2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 due to a lack of cultural diff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TRA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other civilizations eventually left East Asian countrie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Asia bec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MODER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other civilization due to its iso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486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 RELIG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s Buddhism, Shinto, and Confucianism developed in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TERN PHILOSOPH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differently than Western Philosop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w as these cultures developed distinct cultural and ethnic differences due to the iso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ESE CUL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the main cultural influence in East and Southeast Asian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6386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olitical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the isolation, there we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WARS BETWEEN E. ASIAN EMPIR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isolationism in China led to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K MILIT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countries were abl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ONIZE SE ASIAN COUNTR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851200" y="202896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6095880" y="1828800"/>
            <a:ext cx="0" cy="4648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3048120" y="1905120"/>
            <a:ext cx="0" cy="457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5638680" y="1981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0" y="2971800"/>
            <a:ext cx="289548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ndustrialization and urb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rade with oth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modern than othe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3048120" y="2895480"/>
            <a:ext cx="32763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religion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ern Philosophy develop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 incre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culture spread though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6172200" y="2895480"/>
            <a:ext cx="3429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ocal wars between East Asian emp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to a weakened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d European countries to colonize parts of East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403848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each human cause and your solution to address each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76920" y="837720"/>
            <a:ext cx="403848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etch examples of technology that would address each physical cau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038480"/>
            <a:ext cx="838224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economic, political, and social effect that you think is the worst. (one for ea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ify your reason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22860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house you have 2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wo t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car out 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3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family to the left of the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lation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policy of national isolation by not trading with or being involved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attitude that one’s own group or culture is superior to other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4572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152280"/>
            <a:ext cx="26668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BOTH TERMS AND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0"/>
            <a:ext cx="86868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regions did China have contact wi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is have on Chin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ne, no diffusion occur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 diffusion = they developed their ow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9" descr="MPj04341700000[1]"/>
          <p:cNvPicPr/>
          <p:nvPr/>
        </p:nvPicPr>
        <p:blipFill>
          <a:blip r:embed="rId1"/>
          <a:stretch/>
        </p:blipFill>
        <p:spPr>
          <a:xfrm>
            <a:off x="304920" y="2819520"/>
            <a:ext cx="4190760" cy="27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MPj04332070000[1]"/>
          <p:cNvPicPr/>
          <p:nvPr/>
        </p:nvPicPr>
        <p:blipFill>
          <a:blip r:embed="rId2"/>
          <a:stretch/>
        </p:blipFill>
        <p:spPr>
          <a:xfrm>
            <a:off x="4952880" y="2743200"/>
            <a:ext cx="3581640" cy="2895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629400" y="304920"/>
            <a:ext cx="22096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hysical 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nta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such as the Himalayas and the Tian Shan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er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ike the Gobi Desert) acted as natural barriers to the spread of culture in and out of East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c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other major civilizations allowed East Asia to develop in isolation and create a unique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0"/>
            <a:ext cx="304812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Human C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915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as built to keep invaders out of East Asia but it also kept out trade and cultural diffu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thnocentris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r the attitude that one’s own group is superior to other groups prevented the adoption of outside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lationis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a political philosophy in many East Asian governments that prevented trade and travel with civilizations outside of East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0"/>
            <a:ext cx="396252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THE WORDS IN BOLD IN THE CORRECT SPOT ON THE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66301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990720" y="28954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4648320" y="1981080"/>
            <a:ext cx="0" cy="3505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>
            <a:off x="838080" y="2590920"/>
            <a:ext cx="754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72428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914400" y="20574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04920" y="2895480"/>
            <a:ext cx="41907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to other Civil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800600" y="2819520"/>
            <a:ext cx="4191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Wall of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ocent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6:09:25Z</dcterms:created>
  <dc:creator>Jeffrey Burnthorn</dc:creator>
  <dc:description/>
  <dc:language>en-US</dc:language>
  <cp:lastModifiedBy>CFISD</cp:lastModifiedBy>
  <dcterms:modified xsi:type="dcterms:W3CDTF">2009-04-14T16:30:44Z</dcterms:modified>
  <cp:revision>12</cp:revision>
  <dc:subject/>
  <dc:title>Causes and Effects of E/SE Asia’s Isolation</dc:title>
</cp:coreProperties>
</file>