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7336-E505-42D6-99D2-428C16C0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3435-8091-49BF-A1BE-F0D36F21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0A54-FA7D-4F3B-81A9-6FFBBCED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35C-E55E-4ECC-A504-360CA2E4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0381-5979-47A5-94C7-CF6B947D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265-C0A5-4859-8D6E-45A1ED4D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D32-211E-4DE0-8311-4D30A807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55D-3483-4BB1-9E3F-95B3DF74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19D6-83B1-4447-A6CD-9435C3A7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C564-B59B-406D-8C26-80D1BD7B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30FB-F3C0-4868-8252-B4868793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4AC-1EDF-445E-81A3-5BD7A4BD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3F9E-3D18-4E13-AC6C-0737CCAA6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6095880" y="1828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3048120" y="19051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MPj04275910000[1]"/>
          <p:cNvPicPr/>
          <p:nvPr/>
        </p:nvPicPr>
        <p:blipFill>
          <a:blip r:embed="rId1"/>
          <a:stretch/>
        </p:blipFill>
        <p:spPr>
          <a:xfrm>
            <a:off x="0" y="2743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MPj04331190000[1]"/>
          <p:cNvPicPr/>
          <p:nvPr/>
        </p:nvPicPr>
        <p:blipFill>
          <a:blip r:embed="rId2"/>
          <a:stretch/>
        </p:blipFill>
        <p:spPr>
          <a:xfrm>
            <a:off x="3124080" y="2895480"/>
            <a:ext cx="281952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MPj04008010000[1]"/>
          <p:cNvPicPr/>
          <p:nvPr/>
        </p:nvPicPr>
        <p:blipFill>
          <a:blip r:embed="rId3"/>
          <a:stretch/>
        </p:blipFill>
        <p:spPr>
          <a:xfrm>
            <a:off x="6248520" y="2895480"/>
            <a:ext cx="2895480" cy="231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due to a lack of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TRA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civilizations eventually left East Asian countrie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Asia bec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MODER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other civilization due to its is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RELIG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Buddhism, Shinto, and Confucianism developed in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TERN PHILOSOP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differently than Western Philoso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w as these cultures developed distinct cultural and ethnic differences due to the is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ES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the main cultural influence in East and Southeast Asian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litic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the isolation, there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WARS BETWEEN E. ASIAN EMPIR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isolationism in China led 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MILI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countries were abl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E SE ASIAN COUNTR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5880" y="182880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3048120" y="19051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0" y="2971800"/>
            <a:ext cx="2895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rade with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modern than othe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048120" y="2895480"/>
            <a:ext cx="3276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religion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Philosophy develo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culture spread though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172200" y="2895480"/>
            <a:ext cx="3429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ocal wars between East Asian em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to a weakened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European countries to colonize parts of East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0384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each human cause and your solution to address each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6920" y="83772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examples of technology that would address each physical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038480"/>
            <a:ext cx="83822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economic, political, and social effect that you think is the worst. (one for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reaso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house you have 2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wo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car out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3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family to the left of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latio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policy of national isolation by not trading with or being involved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attitude that one’s own group or culture is superior to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4572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52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BOTH TERMS AND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0"/>
            <a:ext cx="86868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regions did China have contac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is have on Chi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ne, no diffusion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 diffusion = they developed their ow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MPj04341700000[1]"/>
          <p:cNvPicPr/>
          <p:nvPr/>
        </p:nvPicPr>
        <p:blipFill>
          <a:blip r:embed="rId1"/>
          <a:stretch/>
        </p:blipFill>
        <p:spPr>
          <a:xfrm>
            <a:off x="304920" y="2819520"/>
            <a:ext cx="4190760" cy="27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MPj04332070000[1]"/>
          <p:cNvPicPr/>
          <p:nvPr/>
        </p:nvPicPr>
        <p:blipFill>
          <a:blip r:embed="rId2"/>
          <a:stretch/>
        </p:blipFill>
        <p:spPr>
          <a:xfrm>
            <a:off x="4952880" y="2743200"/>
            <a:ext cx="3581640" cy="289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ch as the Himalayas and the Tian Shan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er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ke the Gobi Desert) acted as natural barriers to the spread of culture in and out of East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other major civilizations allowed East Asia to develop in isolation and create a unique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built to keep invaders out of East Asia but it also kept out trade and cultural dif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the attitude that one’s own group is superior to other groups prevented the adoption of outside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lation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political philosophy in many East Asian governments that prevented trade and travel with civilizations outside of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0"/>
            <a:ext cx="39625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04920" y="2895480"/>
            <a:ext cx="4190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to other Civi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800600" y="2819520"/>
            <a:ext cx="4191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6:09:25Z</dcterms:created>
  <dc:creator>Jeffrey Burnthorn</dc:creator>
  <dc:description/>
  <dc:language>en-US</dc:language>
  <cp:lastModifiedBy>CFISD</cp:lastModifiedBy>
  <dcterms:modified xsi:type="dcterms:W3CDTF">2009-04-14T16:30:44Z</dcterms:modified>
  <cp:revision>12</cp:revision>
  <dc:subject/>
  <dc:title>Causes and Effects of E/SE Asia’s Isolation</dc:title>
</cp:coreProperties>
</file>