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584-FAAB-4899-8D7D-F22E5E86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806-6FAA-4095-ADAB-1E4B9A64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733-6BEE-4FC7-AEFD-AAC832C1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9F8-0C46-4289-B695-8AFEA0DB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240-31AB-4BB7-9BE8-13043F86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51F-B1FE-4AAD-A56A-2DD91A1D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E9B-79B6-404C-AFED-EEBCFE96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703-DF3F-4991-8286-8DFDAECC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89B-986D-4453-8C01-722DC6DF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83D-2181-4458-9D56-53AD187F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CDA-0FAF-4F3B-B1DB-2A537731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BC9-78E2-45E5-A583-372E5DB1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8028-6E89-4A8E-B439-E8EAAB4A8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851200" y="20289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6095880" y="1828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3048120" y="19051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638680" y="198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MPj04275910000[1]"/>
          <p:cNvPicPr/>
          <p:nvPr/>
        </p:nvPicPr>
        <p:blipFill>
          <a:blip r:embed="rId1"/>
          <a:stretch/>
        </p:blipFill>
        <p:spPr>
          <a:xfrm>
            <a:off x="0" y="2743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MPj04331190000[1]"/>
          <p:cNvPicPr/>
          <p:nvPr/>
        </p:nvPicPr>
        <p:blipFill>
          <a:blip r:embed="rId2"/>
          <a:stretch/>
        </p:blipFill>
        <p:spPr>
          <a:xfrm>
            <a:off x="3124080" y="2895480"/>
            <a:ext cx="281952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MPj04008010000[1]"/>
          <p:cNvPicPr/>
          <p:nvPr/>
        </p:nvPicPr>
        <p:blipFill>
          <a:blip r:embed="rId3"/>
          <a:stretch/>
        </p:blipFill>
        <p:spPr>
          <a:xfrm>
            <a:off x="6248520" y="2895480"/>
            <a:ext cx="2895480" cy="231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629400" y="304920"/>
            <a:ext cx="220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INDUSTRIALIZATION AND URBA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due to a lack of cultural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TRA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civilizations eventually left East Asian countrie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Asia bec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MODER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other civilization due to its is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0"/>
            <a:ext cx="3048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 RELIG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Buddhism, Shinto, and Confucianism developed in East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TERN PHILOSOPH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differently than Western Philoso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w as these cultures developed distinct cultural and ethnic differences due to the iso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ESE 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the main cultural influence in East and Southeast Asian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litical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the isolation, there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WARS BETWEEN E. ASIAN EMPIR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, isolationism in China led 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MILI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countries were abl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IZE SE ASIAN COUNTR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51200" y="20289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5880" y="1828800"/>
            <a:ext cx="0" cy="464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3048120" y="19051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638680" y="198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0" y="2971800"/>
            <a:ext cx="28954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ndustrialization and urb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rade with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modern than othe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048120" y="2895480"/>
            <a:ext cx="3276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religion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n Philosophy develo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centrism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culture spread though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172200" y="2895480"/>
            <a:ext cx="3429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ocal wars between East Asian emp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to a weakened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d European countries to colonize parts of East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0384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man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each human cause and your solution to address each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6920" y="83772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ysical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examples of technology that would address each physical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038480"/>
            <a:ext cx="83822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economic, political, and social effect that you think is the worst. (one for 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your reason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h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house you have 2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wo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car out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3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family to the left of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latio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policy of national isolation by not trading with or being involved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ocentr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attitude that one’s own group or culture is superior to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4572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52280"/>
            <a:ext cx="2666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BOTH TERMS AND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0"/>
            <a:ext cx="86868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regions did China have contact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effect did this have on Chin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ne, no diffusion occu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 diffusion = they developed their ow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990720" y="28954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4648320" y="1981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7242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914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MPj04341700000[1]"/>
          <p:cNvPicPr/>
          <p:nvPr/>
        </p:nvPicPr>
        <p:blipFill>
          <a:blip r:embed="rId1"/>
          <a:stretch/>
        </p:blipFill>
        <p:spPr>
          <a:xfrm>
            <a:off x="304920" y="2819520"/>
            <a:ext cx="4190760" cy="27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MPj04332070000[1]"/>
          <p:cNvPicPr/>
          <p:nvPr/>
        </p:nvPicPr>
        <p:blipFill>
          <a:blip r:embed="rId2"/>
          <a:stretch/>
        </p:blipFill>
        <p:spPr>
          <a:xfrm>
            <a:off x="4952880" y="2743200"/>
            <a:ext cx="3581640" cy="289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29400" y="304920"/>
            <a:ext cx="220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ysical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ch as the Himalayas and the Tian Shan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er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ike the Gobi Desert) acted as natural barriers to the spread of culture in and out of East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other major civilizations allowed East Asia to develop in isolation and create a unique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0"/>
            <a:ext cx="3048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uman C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built to keep invaders out of East Asia but it also kept out trade and cultural diff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the attitude that one’s own group is superior to other groups prevented the adoption of outside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lation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political philosophy in many East Asian governments that prevented trade and travel with civilizations outside of East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0"/>
            <a:ext cx="39625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90720" y="28954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648320" y="1981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7242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14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04920" y="2895480"/>
            <a:ext cx="4190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to other Civi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800600" y="2819520"/>
            <a:ext cx="4191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6:09:25Z</dcterms:created>
  <dc:creator>Jeffrey Burnthorn</dc:creator>
  <dc:description/>
  <dc:language>en-US</dc:language>
  <cp:lastModifiedBy>CFISD</cp:lastModifiedBy>
  <dcterms:modified xsi:type="dcterms:W3CDTF">2009-04-14T16:30:44Z</dcterms:modified>
  <cp:revision>12</cp:revision>
  <dc:subject/>
  <dc:title>Causes and Effects of E/SE Asia’s Isolation</dc:title>
</cp:coreProperties>
</file>