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B413-1ECF-469B-99B9-2F7675A22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396E-B4AA-405F-966C-3B007E946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A864-8155-4318-AE2D-B2263C0AD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A81C-DE87-475F-AD1D-39D48E384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4867-DAE9-4694-BCD0-F265285CF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5B97-C0D9-4AD0-9597-1478E7072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BD79-A882-4FBA-A112-3DF61AAA8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F123-B03D-4F5F-8DEC-B83A64B5F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04F7-C6CE-4B0B-8551-51E1FAD2F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6678-7C8B-4C44-96F7-CA3735007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2F6B-0EC9-4DC8-B634-33D72BCF6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2DCE-ED82-4642-AA59-625F2C0C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66301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2D8CA-8802-4EED-9E5F-7BCACE7077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66301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o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66301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ff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"/>
          <p:cNvSpPr/>
          <p:nvPr/>
        </p:nvSpPr>
        <p:spPr>
          <a:xfrm>
            <a:off x="838080" y="2590920"/>
            <a:ext cx="7543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2851200" y="202896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0" y="20574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8"/>
          <p:cNvSpPr/>
          <p:nvPr/>
        </p:nvSpPr>
        <p:spPr>
          <a:xfrm>
            <a:off x="6095880" y="1828800"/>
            <a:ext cx="0" cy="3505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9"/>
          <p:cNvSpPr/>
          <p:nvPr/>
        </p:nvSpPr>
        <p:spPr>
          <a:xfrm>
            <a:off x="3048120" y="1905120"/>
            <a:ext cx="0" cy="3504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5638680" y="19810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2" descr="MPj04275910000[1]"/>
          <p:cNvPicPr/>
          <p:nvPr/>
        </p:nvPicPr>
        <p:blipFill>
          <a:blip r:embed="rId1"/>
          <a:stretch/>
        </p:blipFill>
        <p:spPr>
          <a:xfrm>
            <a:off x="0" y="274320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3" descr="MPj04331190000[1]"/>
          <p:cNvPicPr/>
          <p:nvPr/>
        </p:nvPicPr>
        <p:blipFill>
          <a:blip r:embed="rId2"/>
          <a:stretch/>
        </p:blipFill>
        <p:spPr>
          <a:xfrm>
            <a:off x="3124080" y="2895480"/>
            <a:ext cx="2819520" cy="1871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4" descr="MPj04008010000[1]"/>
          <p:cNvPicPr/>
          <p:nvPr/>
        </p:nvPicPr>
        <p:blipFill>
          <a:blip r:embed="rId3"/>
          <a:stretch/>
        </p:blipFill>
        <p:spPr>
          <a:xfrm>
            <a:off x="6248520" y="2895480"/>
            <a:ext cx="2895480" cy="23162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629400" y="304920"/>
            <a:ext cx="220968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THE CHART BE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66301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4100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Economic Eff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CK OF INDUSTRIALIZATION AND URBANIZ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ntil the 2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ntury due to a lack of cultural diffu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 TRAD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other civilizations eventually left East Asian countries i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VER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t Asia becam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SS MODER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 other civilization due to its iso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095880" y="0"/>
            <a:ext cx="3048120" cy="13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RD THE WORDS IN BOLD IN THE CORRECT SPOT ON THE CH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66301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486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ocial Eff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IQUE RELIGION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h as Buddhism, Shinto, and Confucianism developed in East As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STERN PHILOSOPH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ed differently than Western Philosoph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THNOCENTRIS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w as these cultures developed distinct cultural and ethnic differences due to the isol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INESE CUL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as the main cultural influence in East and Southeast Asian cul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66301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56386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olitical Eff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e to the isolation, there we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Y WARS BETWEEN E. ASIAN EMPIRE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the 1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ntury, isolationism in China led to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AK MILIT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ropean countries were abl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LONIZE SE ASIAN COUNTRI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1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ntu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66301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ff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3"/>
          <p:cNvSpPr/>
          <p:nvPr/>
        </p:nvSpPr>
        <p:spPr>
          <a:xfrm>
            <a:off x="838080" y="2590920"/>
            <a:ext cx="7543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2851200" y="202896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0" y="20574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"/>
          <p:cNvSpPr/>
          <p:nvPr/>
        </p:nvSpPr>
        <p:spPr>
          <a:xfrm>
            <a:off x="6095880" y="1828800"/>
            <a:ext cx="0" cy="4648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7"/>
          <p:cNvSpPr/>
          <p:nvPr/>
        </p:nvSpPr>
        <p:spPr>
          <a:xfrm>
            <a:off x="3048120" y="190512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5638680" y="19810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0" y="2971800"/>
            <a:ext cx="289548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industrialization and urb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rade with other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v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modern than other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3048120" y="2895480"/>
            <a:ext cx="327636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que religions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tern Philosophy develop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hnocentrism incre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nese culture spread though A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6172200" y="2895480"/>
            <a:ext cx="34290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local wars between East Asian emp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d to a weakened milit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d European countries to colonize parts of East As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66301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sig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03848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uman Ca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each human cause and your solution to address each cau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76920" y="837720"/>
            <a:ext cx="4038480" cy="25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hysical Ca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etch examples of technology that would address each physical cau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4038480"/>
            <a:ext cx="8382240" cy="213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he economic, political, and social effect that you think is the worst. (one for ea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stify your reasoning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66301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 – SE A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28600" y="914400"/>
          <a:ext cx="8763120" cy="4838760"/>
        </p:xfrm>
        <a:graphic>
          <a:graphicData uri="http://schemas.openxmlformats.org/drawingml/2006/table">
            <a:tbl>
              <a:tblPr/>
              <a:tblGrid>
                <a:gridCol w="1219320"/>
                <a:gridCol w="5715000"/>
                <a:gridCol w="18288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shm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SE Asia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ver P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an-Environment Intera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ig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ol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228600" y="2286000"/>
            <a:ext cx="8763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66301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a house you have 2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a s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two tr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a car out fro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3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a family to the left of the h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a p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66301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olationis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a policy of national isolation by not trading with or being involved with other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thnocentris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the attitude that one’s own group or culture is superior to other grou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95880" y="457200"/>
            <a:ext cx="2743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943600" y="152280"/>
            <a:ext cx="266688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 BOTH TERMS AND DEFIN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66301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0"/>
            <a:ext cx="8686800" cy="62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ip Question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hat regions did China have contact with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What effect did this have on Chin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None, no diffusion occur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No diffusion = they developed their own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66301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a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990720" y="2895480"/>
            <a:ext cx="190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4"/>
          <p:cNvSpPr/>
          <p:nvPr/>
        </p:nvSpPr>
        <p:spPr>
          <a:xfrm>
            <a:off x="4648320" y="1981080"/>
            <a:ext cx="0" cy="3505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5"/>
          <p:cNvSpPr/>
          <p:nvPr/>
        </p:nvSpPr>
        <p:spPr>
          <a:xfrm>
            <a:off x="838080" y="2590920"/>
            <a:ext cx="7543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4724280" y="20574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 Ca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7"/>
          <p:cNvSpPr/>
          <p:nvPr/>
        </p:nvSpPr>
        <p:spPr>
          <a:xfrm>
            <a:off x="914400" y="20574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Ca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9" descr="MPj04341700000[1]"/>
          <p:cNvPicPr/>
          <p:nvPr/>
        </p:nvPicPr>
        <p:blipFill>
          <a:blip r:embed="rId1"/>
          <a:stretch/>
        </p:blipFill>
        <p:spPr>
          <a:xfrm>
            <a:off x="304920" y="2819520"/>
            <a:ext cx="4190760" cy="2752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1" descr="MPj04332070000[1]"/>
          <p:cNvPicPr/>
          <p:nvPr/>
        </p:nvPicPr>
        <p:blipFill>
          <a:blip r:embed="rId2"/>
          <a:stretch/>
        </p:blipFill>
        <p:spPr>
          <a:xfrm>
            <a:off x="4952880" y="2743200"/>
            <a:ext cx="3581640" cy="2895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629400" y="304920"/>
            <a:ext cx="220968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THE CHART BE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66301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hysical Ca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untai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such as the Himalayas and the Tian Shan)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er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like the Gobi Desert) acted as natural barriers to the spread of culture in and out of East A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ca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Dist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other major civilizations allowed East Asia to develop in isolation and create a unique cul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95880" y="0"/>
            <a:ext cx="3048120" cy="13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RD THE WORDS IN BOLD IN THE CORRECT SPOT ON THE CH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66301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715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Human Cau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Great Wall of Chi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as built to keep invaders out of East Asia but it also kept out trade and cultural diffu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thnocentris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r the attitude that one’s own group is superior to other groups prevented the adoption of outside cult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olationis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a political philosophy in many East Asian governments that prevented trade and travel with civilizations outside of East As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181480" y="0"/>
            <a:ext cx="396252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RD THE WORDS IN BOLD IN THE CORRECT SPOT ON THE CH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66301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a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990720" y="2895480"/>
            <a:ext cx="190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4"/>
          <p:cNvSpPr/>
          <p:nvPr/>
        </p:nvSpPr>
        <p:spPr>
          <a:xfrm>
            <a:off x="4648320" y="1981080"/>
            <a:ext cx="0" cy="3505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5"/>
          <p:cNvSpPr/>
          <p:nvPr/>
        </p:nvSpPr>
        <p:spPr>
          <a:xfrm>
            <a:off x="838080" y="2590920"/>
            <a:ext cx="7543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4724280" y="20574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 Ca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914400" y="20574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Ca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304920" y="2895480"/>
            <a:ext cx="41907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unt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e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ance to other Civiliz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4800600" y="2819520"/>
            <a:ext cx="4191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reat Wall of Ch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hnocentr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6:09:25Z</dcterms:created>
  <dc:creator>Jeffrey Burnthorn</dc:creator>
  <dc:description/>
  <dc:language>en-US</dc:language>
  <cp:lastModifiedBy>CFISD</cp:lastModifiedBy>
  <dcterms:modified xsi:type="dcterms:W3CDTF">2009-04-14T16:30:44Z</dcterms:modified>
  <cp:revision>12</cp:revision>
  <dc:subject/>
  <dc:title>Causes and Effects of E/SE Asia’s Isolation</dc:title>
</cp:coreProperties>
</file>