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4994-CDBE-4B01-8872-1B92F7C6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5C2-FC79-4AF9-8EF0-063FF88E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4F3F-161F-4033-85BA-80E76CA0F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5DC1-77F0-48C0-9F6E-817799FA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54F-FDCC-4F08-A690-56F28F40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DBEC-5F77-44F4-BA41-24566359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AC3-C5C8-4EDA-B274-81A2416B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6D3-A1B1-4DBE-8213-46B05ABA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72B2-A0AB-4905-849C-8AE614C4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F0C-D998-48E9-8BED-90B9E65D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B541-8523-4201-B4BB-DF9C0D43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3A69-C987-4BAE-84F6-48D94302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2306-2C1A-4032-B962-A854F7DC5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 of the 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stment Capit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ney used to start a bus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 lacks investment capital because of colo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Europeans controlled all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led to development of one-commodity countries because of a lack of start-up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5:26:30Z</dcterms:created>
  <dc:creator>CFISD</dc:creator>
  <dc:description/>
  <dc:language>en-US</dc:language>
  <cp:lastModifiedBy>CFISD</cp:lastModifiedBy>
  <dcterms:modified xsi:type="dcterms:W3CDTF">2009-05-19T15:26:45Z</dcterms:modified>
  <cp:revision>1</cp:revision>
  <dc:subject/>
  <dc:title>Question of the Day</dc:title>
</cp:coreProperties>
</file>