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37AE-7328-4753-907A-FF5E8B36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8D51-7FF9-4BB5-91C8-3B238FBF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30E-321D-4D05-8A3A-EE762175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3F12-651D-46C9-A57C-2D8426F5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1C3F-8FA1-4C43-9BBD-45BA1A38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1F7-86EA-4C0D-ADF2-6F2B5DF3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E484-ADC6-4960-8822-B7E2C71B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7DD5-BFA7-4FA1-A135-6EC0BB1F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1E12-6376-4180-BFA6-2ED624A9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C7A9-1888-47FC-8CDF-7D438CF0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F32B-F758-4837-ADF9-7E232D9C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3FFC-647D-4211-A0E8-A271ED36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8DB3-C958-4446-817C-9C3C340A2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of the 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vestment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oney used to start a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 lacks investment capital because of colo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Europeans controlled all natur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led to development of one-commodity countries because of a lack of start-up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5:26:30Z</dcterms:created>
  <dc:creator>CFISD</dc:creator>
  <dc:description/>
  <dc:language>en-US</dc:language>
  <cp:lastModifiedBy>CFISD</cp:lastModifiedBy>
  <dcterms:modified xsi:type="dcterms:W3CDTF">2009-05-19T15:26:45Z</dcterms:modified>
  <cp:revision>1</cp:revision>
  <dc:subject/>
  <dc:title>Question of the Day</dc:title>
</cp:coreProperties>
</file>