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232-C6C2-4CAA-B047-0CF2011B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B06-DD5F-4D5D-865A-F4FFCA75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1E4-986C-49A0-ABCF-9AE37225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295-9336-4DBC-A79D-FAE92A34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FC7-4F36-4898-9974-BF7925DD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4F5-7C00-494D-9EBA-F7908357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369-97B0-448B-A717-003107ED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308-9D22-4FF0-86E6-37AAE0C6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78A-4DB6-4A6F-B26C-1F9D8137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0A0-64AE-4335-A977-CEAE6B6B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DE6-A561-4954-9C3B-A38217A3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4093-6E6C-4842-AB3A-199EFF4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0602-367C-4EC3-8365-6932C11CA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of the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vestment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oney used to start a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 lacks investment capital because of colo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Europeans controlled all natu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led to development of one-commodity countries because of a lack of start-up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5:26:30Z</dcterms:created>
  <dc:creator>CFISD</dc:creator>
  <dc:description/>
  <dc:language>en-US</dc:language>
  <cp:lastModifiedBy>CFISD</cp:lastModifiedBy>
  <dcterms:modified xsi:type="dcterms:W3CDTF">2009-05-19T15:26:45Z</dcterms:modified>
  <cp:revision>1</cp:revision>
  <dc:subject/>
  <dc:title>Question of the Day</dc:title>
</cp:coreProperties>
</file>