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299-AB62-4D30-86FB-6F02FA4C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754-B5C6-4639-8C0D-A1A114CD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55D-0469-442C-8AEE-8E052B56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42B-232E-414F-929C-091E7C09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078-7E77-4369-9FB6-FBEE8A4B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D34-6281-4B5F-98A7-D3985E2F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F40-9B15-44F7-89FA-A52FB26D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000-0BD6-4CE2-BD2F-63AEC07D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699-2A7E-4B91-BF13-11E99CC7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75A-9800-4707-B84A-AEE8A1D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CEC-CBDE-488D-8A57-A047B8B0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458-E318-4B63-8719-7B5C1D20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E8F1-622F-4975-9C05-2D58892C8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of th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stment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ney used to start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lacks investment capital because of colo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uropeans controlled all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ed to development of one-commodity countries because of a lack of start-up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5:26:30Z</dcterms:created>
  <dc:creator>CFISD</dc:creator>
  <dc:description/>
  <dc:language>en-US</dc:language>
  <cp:lastModifiedBy>CFISD</cp:lastModifiedBy>
  <dcterms:modified xsi:type="dcterms:W3CDTF">2009-05-19T15:26:45Z</dcterms:modified>
  <cp:revision>1</cp:revision>
  <dc:subject/>
  <dc:title>Question of the Day</dc:title>
</cp:coreProperties>
</file>