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37FE-49A3-4C58-9992-FF7444FB9D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F633-D879-4112-8D87-685AC09EDC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EAE1-3494-426A-905C-B89BB68B11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2048-4B5E-4317-9BA6-01750DBC7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EC24-E564-435E-A427-4001EE952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5805-0063-4110-A8BE-5000631E9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E33C-3982-414C-B0D1-907137CD5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6E2D-7088-4D24-9091-76C09C94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FE55-68CC-43B7-879C-55F7604B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8148-3ABB-4EE3-B82F-9DA079CC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03B5-DE6E-4309-AE1B-F9FD556E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9CDE-67B4-464E-A2FA-5E41FB26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8A0F-51B6-4FF6-A29C-7FCE71A5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5AB6-A4C9-4066-B7CB-950A0EA2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34E2-8C19-4960-8119-A906BE93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0F6D-F775-4B2B-8994-23A4077D01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bs.org/thestoryofindia/gallery/photos/21.html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acts of British colo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rticle Analy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ions: Complete the following tasks while reading the article titled “Colonialism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mplete the following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Circle all d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Highlight all EFFECTS of British Colo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Record each effect in your notebo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. Label each effect with an E, S, or 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E = Economic, S = Social, P = Polit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irec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Access the power point titled “Impacts of British colonization – min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. Complete the Infrastructure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. Complete the Article Analysis (see me for an artic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. Begin the Timeline Assign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Access the power point titled “Colonization Timelines – Directions and Resource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able of Contents – South As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28600" y="914400"/>
          <a:ext cx="8763120" cy="480852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*South Asi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malayas and Tsunam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/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so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/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popu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/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ndu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/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228600" y="16002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sons for Colo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324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Natural Resources – salt, spices, cott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New Markets -  British East India Company controls all Indian tra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images.encarta.msn.com/xrefmedia/sharemed/targets/images/pho/t045/T045035A.jpg"/>
          <p:cNvPicPr/>
          <p:nvPr/>
        </p:nvPicPr>
        <p:blipFill>
          <a:blip r:embed="rId2"/>
          <a:stretch/>
        </p:blipFill>
        <p:spPr>
          <a:xfrm>
            <a:off x="6858000" y="1981080"/>
            <a:ext cx="19810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ext Placeholder 2" descr=""/>
          <p:cNvPicPr/>
          <p:nvPr/>
        </p:nvPicPr>
        <p:blipFill>
          <a:blip r:embed="rId2"/>
          <a:stretch/>
        </p:blipFill>
        <p:spPr>
          <a:xfrm>
            <a:off x="0" y="1736640"/>
            <a:ext cx="9144000" cy="5121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aj </a:t>
            </a: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period of Indian history in which they were a British colon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7162920" y="4343400"/>
            <a:ext cx="1752480" cy="228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nglish baby girl being carried by two Indian serv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6868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Effects of British coloniz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NGLISH LANGUAG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spoken in Ind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. India is a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DEMOCRA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Content Placeholder 7" descr="719px-India_railways1909a.jpg"/>
          <p:cNvPicPr/>
          <p:nvPr/>
        </p:nvPicPr>
        <p:blipFill>
          <a:blip r:embed="rId2"/>
          <a:srcRect l="4615" t="4869" r="3075" b="5915"/>
          <a:stretch/>
        </p:blipFill>
        <p:spPr>
          <a:xfrm>
            <a:off x="4038480" y="228600"/>
            <a:ext cx="4953240" cy="45403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3962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3. Excellent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DUCATION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system in urban are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4. British built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FRASTRUCTUR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– ports and railroa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rcRect l="29000" t="0" r="0" b="0"/>
          <a:stretch/>
        </p:blipFill>
        <p:spPr>
          <a:xfrm>
            <a:off x="3733920" y="2209680"/>
            <a:ext cx="5410080" cy="4648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28600" y="0"/>
            <a:ext cx="556272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5. Extreme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OVERT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 most Indians are farm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- horrible living cond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frastructure Ac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pbs.org/thestoryofindia/gallery/photos/21.htm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ion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Click on the link be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Click “Explore the Topic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Click “Discussion Questions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See the next slide for hel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rcRect l="0" t="0" r="5000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029200" y="2057400"/>
            <a:ext cx="2057400" cy="7621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5410080"/>
            <a:ext cx="2133720" cy="685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04:40:15Z</dcterms:created>
  <dc:creator>Jason P Warnick</dc:creator>
  <dc:description/>
  <dc:language>en-US</dc:language>
  <cp:lastModifiedBy>CFISD</cp:lastModifiedBy>
  <dcterms:modified xsi:type="dcterms:W3CDTF">2009-03-25T12:46:13Z</dcterms:modified>
  <cp:revision>37</cp:revision>
  <dc:subject/>
  <dc:title>Impacts of British colonization</dc:title>
</cp:coreProperties>
</file>