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DDA1-0378-4A13-82BE-D2C232ADA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BE9E-2B28-4564-9C62-FE2F5AF15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0493-B1E5-4121-98FC-5C3D90E75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E02-CECF-40D0-A2FD-5D9FE24C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90E-46F0-4BD6-8449-8C5682B9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0A04-20AB-417E-B1DE-8E32319D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64B7-EF0B-43F0-BB34-08F76C68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A7BC-571B-41FE-9C9A-1FD4CF7D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228-65F8-4DF6-AA49-265D1090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7A30-AA8C-4744-9049-A0CCD1AB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C2B-F30B-4B2E-80A7-FDC62163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3F58-3F4B-4F84-9E5B-741596F9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8A58-F5DD-4ECD-B5BA-AE3E89F5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8686-E9C6-4CE4-B388-A5E71BA9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003-2982-4B32-A98C-70700FA1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3E7A-C638-4D6A-A231-FD4E3940B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bs.org/thestoryofindia/gallery/photos/21.html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s of British colo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ticle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ions: Complete the following tasks while reading the article titled “Colonialis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mplete the follow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ircle all 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Highlight all EFFECTS of British Col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cord each effect in your note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Label each effect with an E, S, or 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 = Economic, S = Social, P = Poli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Access the power point titled “Impacts of British colonization – min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Complete the Infrastructure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Complete the Article Analysis (see me for an artic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Begin the Timeline Assign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ccess the power point titled “Colonization Timelines – Directions and Resourc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ble of Contents – South As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South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malayas and Tsunam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so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ndu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sons for Colo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Natural Resources – salt, spices, cott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New Markets -  British East India Company controls all Indian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images.encarta.msn.com/xrefmedia/sharemed/targets/images/pho/t045/T045035A.jpg"/>
          <p:cNvPicPr/>
          <p:nvPr/>
        </p:nvPicPr>
        <p:blipFill>
          <a:blip r:embed="rId2"/>
          <a:stretch/>
        </p:blipFill>
        <p:spPr>
          <a:xfrm>
            <a:off x="6858000" y="1981080"/>
            <a:ext cx="1981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ext Placeholder 2" descr=""/>
          <p:cNvPicPr/>
          <p:nvPr/>
        </p:nvPicPr>
        <p:blipFill>
          <a:blip r:embed="rId2"/>
          <a:stretch/>
        </p:blipFill>
        <p:spPr>
          <a:xfrm>
            <a:off x="0" y="1736640"/>
            <a:ext cx="9144000" cy="5121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aj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period of Indian history in which they were a British colon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4343400"/>
            <a:ext cx="17524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glish baby girl being carried by two Indian serv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6868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Effects of British colon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NGLISH LANGUAG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poken in Ind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India is a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7" descr="719px-India_railways1909a.jpg"/>
          <p:cNvPicPr/>
          <p:nvPr/>
        </p:nvPicPr>
        <p:blipFill>
          <a:blip r:embed="rId2"/>
          <a:srcRect l="4615" t="4869" r="3075" b="5915"/>
          <a:stretch/>
        </p:blipFill>
        <p:spPr>
          <a:xfrm>
            <a:off x="4038480" y="228600"/>
            <a:ext cx="4953240" cy="4540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962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. Excellent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DUCAT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system in urban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. British built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FRASTRUCTU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ports and railroa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29000" t="0" r="0" b="0"/>
          <a:stretch/>
        </p:blipFill>
        <p:spPr>
          <a:xfrm>
            <a:off x="3733920" y="2209680"/>
            <a:ext cx="5410080" cy="4648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0"/>
            <a:ext cx="55627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. Extrem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VER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most Indians are far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horrible living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rastructur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bs.org/thestoryofindia/gallery/photos/21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lick on the link be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Click “Explore the Topic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lick “Discussion Question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ee the next slide for hel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0" t="0" r="50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29200" y="2057400"/>
            <a:ext cx="205740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5410080"/>
            <a:ext cx="21337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4:40:15Z</dcterms:created>
  <dc:creator>Jason P Warnick</dc:creator>
  <dc:description/>
  <dc:language>en-US</dc:language>
  <cp:lastModifiedBy>CFISD</cp:lastModifiedBy>
  <dcterms:modified xsi:type="dcterms:W3CDTF">2009-03-25T12:46:13Z</dcterms:modified>
  <cp:revision>37</cp:revision>
  <dc:subject/>
  <dc:title>Impacts of British colonization</dc:title>
</cp:coreProperties>
</file>